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7CCC-E610-4984-B651-9D27A7D307E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Zielgrupp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ultierende Forderung: leich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rständlichkei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z.B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eine Formel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fast vollständiger Verzicht auf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thodische Hinwe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ay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seblattsammlung – Hinweis auf spätere Änderungsmöglichkeite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cht mehr als schnell vergilbtes Amtsbla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Jahrgangsstufenplä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fang: Angabe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rbindl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ktur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nspaltige Inhaltslisten: also keine Methodenhinweise, keine Erklärungen für den Lehr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undfertigkeiten sind von Grundwissen zu unterscheiden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eine Inhaltslis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sonder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lgemein formulierte Jahrgangszie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voraussichtliche Überschrift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chhaltiges Ler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MBek-Ebe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er ne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ülerkonturen (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ädagogisch-psychologisches Prof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r Jahrgangsstufen) und pädagogische Akzente (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onsequenzen für das Schulleb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; Problem: grobes Raster, Schubladendenken, nur über alle Jahrgangsstufen hinweg ausreichend informat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chprofil (Entwurf liegt jedem SL vor), Gliederu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Selbstverständnis des Fachs/Unterrichtsfac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Beitrag zur gymnasialen Bil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Beitrag zur Persönlichkeitsbil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Fächerübergreifende Zusammenarb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Grundlegende Ziele und Inha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Besonderheiten (Hinweise zur Unterrichtsgestaltu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ink-Ebe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Über die Vorgaben und Leitlinien hinaus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uss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die Kommission zu einigen Bereichen neue Ideen und Konzepte entwickeln. Da deren Kenntnis die Interpretation des Lehrplans erleichtert, soll hier auf einige Ideen und Konzepte eingegangen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Hier: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Umgang mit den „neuen“ Fäch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u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isher erkennbare Konzeption des Fachs erlaubt den Verzicht auf die „exemplarische Einführung in die Physik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f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haltliche Abstimmung schwier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elche Anknüpfungsmöglichkeiten (insb. am NTG) möglich sind, ist noch nicht erkennb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rzeitige Tendenz: Informatik-Grundwissen für Physik nicht unmittelbar nutzbar (am Nicht-NTG nur in Jgst. 6!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chülerübung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fa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.B. gemäß Jahrgangsstufenplan (8): „ sind ..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gelmäßige Schülerübung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jektartige Unterrichtsvorhab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unerlässlich.“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lassenteilung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l. Fachprofil: „Um einen effizienten und vor allem auch sicheren Ablauf zu gewährleisten, ist hierbei auf angemessene Gruppengrößen zu achten; gegebenenfall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ann dies durch Teilu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r Klasse erreicht werden.“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wicklung der Experimentalkultu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l. Fachprofil: „Die Schülerinnen und  Schüler sollen regelmäßig selbst Experimente durchführen, um ih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reativitä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thodenkompetenz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zu fördern.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jektartige Vorhab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weitert die Möglichkeiten des bisher vorgeschriebenen Unterrichtsprojek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Zum Vergleich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eu: 52 (= 47 + 5) statt bisher 56 Jahreswochenstunden (als Planungsgrundl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Teilweise verpflichtende NTG-Vertiefung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Jahrgangsstufe 9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erpetuum mobile, geschichtliche Entwicklung des Energiebegriffs / Spannenergie bei hookeschen Federn / Druck in Flüssigkeiten und Gasen / spezifische Wärmekapazität, Solarkonstante / Reibung / Sonnenkollektoren / Treibhauseffekt /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Druck in Flüssigkeiten und Gasen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/ Aufbau des internationalen Einheitensystems / Aufnahme der Fallbewegung, Schwerelosigkeit, Gewichtskraft auf dem M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Jahrgangsstufe 1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elbstinduktion mit Anwendungen /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Halbleiter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/ Hochspannungstechnik zur Energieübertrag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Jahrgangsstufe 11: noch nicht ausgereift (bisher nur ausgewiesen: „zweidimensionale stehende Wellen“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Exemplarisierung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.h. keine Physiker-Ausbildung, sondern solide Grundlage für naturwissenschaftliches Arbei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eu“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inige politische Entscheidungen waren bereits im Vorfeld bekan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inige Forderungen und Wünsche wurden schon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eit Jahren von Lehrergruppen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und -verbänden geäuße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Ausbildungsrichtungen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TG = ersetzt das bisherige M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SG = vereint die beiden bisherigen Ausbildungsricht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pG = bisherige neusprachliche + humanistisches Gy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uG = fortentwickeltes bisheriges M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Bilanz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der Stundentafe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Je 1 Stunde Physik mehr (außer MuG); jedoch keine Stunden in 6 und 7, würdig für ein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Kernfach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NuT als Grundstoc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/naturwissenschaftliche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gerung: inhaltliche Kürzungen können geringer ausfallen als zu befürchten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DB3-782D-4CDC-BF3D-92916A36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21B9-74BF-42B5-B6A2-94A464B3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E58-6F4E-412A-8D5E-F46C4E69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7FF-1757-46EC-A011-1B594AB9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12D-8024-4E32-98C6-EDDEA1E1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A72-2A93-40AB-A1D6-98CC6391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53C-97EA-4D8C-AED7-25FE6922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DE9-4503-44AA-A2F0-090CD8AF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D52-51E2-4301-B653-E7B5C2ED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EEC-9187-4AFD-AEA7-548C6C71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120-E981-4F6E-96EC-AFB700F1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5F3-3A61-4B34-BE4D-E6622546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EC48-F302-4215-A0CB-7122A67BC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achdidaktik Physik</a:t>
            </a:r>
            <a:br>
              <a:rPr sz="2400"/>
            </a:b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deen - Gedanken - Konzepte </a:t>
            </a:r>
            <a:br>
              <a:rPr sz="3600"/>
            </a:b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zum neuen Lehrplan</a:t>
            </a:r>
            <a:br>
              <a:rPr sz="3600"/>
            </a:br>
            <a:br>
              <a:rPr sz="2400"/>
            </a:b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Norbert Schell 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10.10.200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tritt in Kraft ab 2003/2004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mit der 5. K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hysik ab 2006/07 in Jahrgangsstufe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der Physiklehrer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1819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der Physiklehrer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der Physiklehrer 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7391520" cy="2398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3962520"/>
            <a:ext cx="85345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1                2             3              4              5            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                          </a:t>
            </a: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1: Weiterentwicklung der Aufgabenkult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                                            </a:t>
            </a: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2: Förderung von kumulativem Ler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</a:t>
            </a: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3: Sicherung von Basiswissen; Sicherung von 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4:  Fächerverbindendes Arb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5: konstruktiver Umgang mit Fehl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ffff66"/>
                </a:solidFill>
                <a:latin typeface="Times New Roman"/>
              </a:rPr>
              <a:t>6: Förderung von Mädchen und J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der Physiklehrer 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1676520"/>
            <a:ext cx="7086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Fragen zu Lerninhalten der einzelnen Jahrgangsstuf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763120" cy="3514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8763120" cy="3505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52280" y="2057400"/>
            <a:ext cx="876312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der Physiklehrer 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676520"/>
            <a:ext cx="7086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Fragen zu Lerninhalten der einzelnen Jahrgangsstuf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391520" cy="4535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Grundlegende Änderung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Richtlinienlehrplan</a:t>
            </a:r>
            <a:br>
              <a:rPr sz="2800"/>
            </a:b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- mehr Freiraum für den Lehrer</a:t>
            </a:r>
            <a:br>
              <a:rPr sz="2800"/>
            </a:b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- mehr Verantwortung für den Lehrer</a:t>
            </a:r>
            <a:br>
              <a:rPr sz="2800"/>
            </a:b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- Freiraum für horizontale Vernetzung</a:t>
            </a:r>
            <a:br>
              <a:rPr sz="2800"/>
            </a:b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- Freiraum für vertikale Vertie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Kumulatives Ler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Informationsblöcke (ohne fachlogische Begründu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Planen und Argumentieren in naturwissenschaftl. Konzep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Richtiger Grad an Mathematis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Grundlegende Änderung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Vorstellung von Physik vermitteln (Modellbildu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Bezüge zur modernen Phys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Bezüge zur modernen Technik (Halbleiter, Nanotechnologie,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Integration des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Förderung von Jungen und Mäd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Imagesteigerung der naturwissenschaftlichen Fä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Kompetenzen und Metho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Selbständigkeit, Eigenaktivität, Eigeninitiative för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Schüler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Allgemeine personale Kompetenz fördern und fordern</a:t>
            </a:r>
            <a:br>
              <a:rPr sz="2400"/>
            </a:b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(Sozialkompetenz, Medienkompetenz, Schlüsselqualifikationen,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Problemlösende Ansätze, kumulatives und strategisches Lernen unterstü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Methoden zur Informationsbeschaffung, –</a:t>
            </a:r>
            <a:r>
              <a:rPr b="0" lang="de-DE" sz="2400" spc="-1" strike="noStrike" u="sng">
                <a:solidFill>
                  <a:srgbClr val="ffff66"/>
                </a:solidFill>
                <a:uFillTx/>
                <a:latin typeface="Times New Roman"/>
              </a:rPr>
              <a:t>bearbeitung und - bewertung 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schu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Aufgabenkultur, Experimentierkul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Grundwissen, Grundfertigkeiten, Kompetenzen </a:t>
            </a:r>
            <a:br>
              <a:rPr sz="2400"/>
            </a:b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(von der Schule festzule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66"/>
                </a:solidFill>
                <a:latin typeface="Times New Roman"/>
              </a:rPr>
              <a:t>Übergeordnete Zi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erstehen, was Physik ist und womit sie sich beschäf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enntnis der typischen Ansätze und Methoden der Phy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hysikalische Grundprinzipien 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hysikalisches Experimentieren beherr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edeutung der Physik für die persönliche Entwicklung er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rstellungen und Konzepte zu Fragestellungen aus Natur und Technik 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mgang mit Wissen und Information beherr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Formale Vorgaben des KM/IS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Zielgruppen: Lehrer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und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Eltern, Hochschulen, Verbänd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seblattsammlung mit ansprechendem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D- und Internet-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Jahrgangsstufenplä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mfang (Jgst. 8: 2 Seiten, Jgst. 9 – 11: 3 Sei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truktur: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- einleitender Ziel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- einspaltige Inhaltsl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- Auflistung von grundlegenden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Kenntnissen und Fertig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tundentafel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aturwissenschaftlich-technologisches Gymnasium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NT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tundentafel%20NT" descr=""/>
          <p:cNvPicPr/>
          <p:nvPr/>
        </p:nvPicPr>
        <p:blipFill>
          <a:blip r:embed="rId1"/>
          <a:srcRect l="2831" t="13433" r="18868" b="22388"/>
          <a:stretch/>
        </p:blipFill>
        <p:spPr>
          <a:xfrm>
            <a:off x="838080" y="2209680"/>
            <a:ext cx="7772400" cy="421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4920" y="45716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Konzeptionelle Vorgaben des KM/IS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KMBek-Eb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1. Bildungsauftrag des Gymnasi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2. Fach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3. Jahrgangsstufenplä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Schülerkonturen/pädagogische Akz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Angabe von erworbenen Grundkennt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Link-Eb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1. Erläuterungen, Kommentare, Bsp. für Schulaufgaben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2. Methodische Empfehlungen, Materialien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3. Beispiele, Projekte einzelner Schulen,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Natur und Technik in Jgst. 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Unterrichtung durch Physiklehrer nicht gesich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Keine inhaltliche Verknüpfung mit Physikthemen der Jgst.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Verzicht auf die bisherige „exemplarische“ Einführung in die Phys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Konzepte im neuen Lehr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Schülerübung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nerlässlich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lassenteilung im Rahmen der Budgetierung empfo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endenz zu „offeneren“ experimentellen Aufgabenstell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Projektartige Vorhab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nerlässlich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5 Unterrichtsstunden pro Jahr sind hierfür frei ge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eitere Stunden im Rahmen der individuellen Schwerpunktse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Zeitangaben und Zeitökonom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47 Std. inhaltlich gebunden (bisher 56 bzw. 8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5 Std. für besondere Aktivitäten reser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m NTG: verbindliche Vertiefungen statt Addita (angegeben mit „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NTG: ...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leiche Ausführlichkeit aller Inhalte nicht mögl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hwerpunktsetzung bzw. Exemplarisierung erforderli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egebenenfalls auch Info-Blöcke (statt fragend-entwickelndem Unterri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8.Klasse: 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aturwissenschaftliches Arbeiten in der Phy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057400"/>
            <a:ext cx="74674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Optik (12)</a:t>
            </a:r>
            <a:br>
              <a:rPr sz="2000"/>
            </a:b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gradlinige Ausbreitung des Lichts, Licht an Grenzflä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Far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Elektrischer Strom (10)</a:t>
            </a:r>
            <a:br>
              <a:rPr sz="2000"/>
            </a:b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Stromkreis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Stromstärke, Spannung, Wider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Kinematik (8)</a:t>
            </a:r>
            <a:br>
              <a:rPr sz="2000"/>
            </a:b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Beschreibung und Darstellung von Bewegungsablä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Kräfte in Natur und Technik (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Stundenpool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9.Klasse 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nergieerhaltung – ein fundamentales Naturprin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905120"/>
            <a:ext cx="74678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Energie als Erhaltungsgröße (13)</a:t>
            </a:r>
            <a:br>
              <a:rPr sz="2000"/>
            </a:b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- Energieformen in der Mecha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Aufbau der Materie und innere Energie (14)</a:t>
            </a:r>
            <a:br>
              <a:rPr sz="2000"/>
            </a:b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- Änderung der inneren Energie</a:t>
            </a:r>
            <a:br>
              <a:rPr sz="2000"/>
            </a:b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- Energieentwertung</a:t>
            </a:r>
            <a:br>
              <a:rPr sz="2000"/>
            </a:b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- Temperatursk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9933"/>
                </a:solidFill>
                <a:latin typeface="Times New Roman"/>
              </a:rPr>
              <a:t>Druck in Flüssigkeiten und Gasen (nur NTG: 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Elektrische Energie (9)</a:t>
            </a:r>
            <a:br>
              <a:rPr sz="2000"/>
            </a:b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- elektr. Spannung, Leist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Kinematik gradliniger Bewegungen (11)</a:t>
            </a:r>
            <a:br>
              <a:rPr sz="2000"/>
            </a:b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- Kraft und Beschleun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33"/>
                </a:solidFill>
                <a:latin typeface="Times New Roman"/>
              </a:rPr>
              <a:t>Stundenpool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0.Klasse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hysikalische Einsichten in die 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Elektrizitätslehre (22)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Grundaussagen, einfache Stromkreise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Lorentzkraft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Induktion</a:t>
            </a:r>
            <a:br>
              <a:rPr sz="2000"/>
            </a:b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- Halbleiter (nur NT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Aufbau von Atomen 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Hülle und Ker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Energiezustände von Hülle und Ker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Kernumwandlung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Strahlung radioaktiver Nuk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Energietechnik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System der elektrischen Energieversor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Stundenpool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1.Klasse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hysikalische Weltb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Entwicklung des astronomischen Weltbildes 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Dynamik (25)</a:t>
            </a:r>
            <a:br>
              <a:rPr sz="2000"/>
            </a:b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Modellierung von Bewegungsabläufe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eindimensionale, zweidimensionale Beweg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Grenzen der klassischen Mecha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Wellenphänomene und Quantenmechanik (14)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Welle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- Akustik (nur NT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Beugung und Interfer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Aspekte von Licht (Welle, Teilchen)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Teilchen haben Welleneigenschaft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- Unmöglichkeit der Vorhersage von Einzelexperim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Stundenpool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Kollegstufe</a:t>
            </a:r>
            <a:br>
              <a:rPr sz="32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momentan in Arbe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Keine formale Trennung zwischen Fach (bisher gk) und Vertiefungsfach (bisher L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Im Vertiefungsf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Zusätzliche Inhal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Vertiefung der Inhal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Vermehrt Experimente und Experimentalrefe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K12: </a:t>
            </a:r>
            <a:br>
              <a:rPr sz="2400"/>
            </a:b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elektr. und magnetisches Feld; Bewegung von Teilchen in Fel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K13:</a:t>
            </a:r>
            <a:br>
              <a:rPr sz="2400"/>
            </a:b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Struktur der Materie, Quantenobjekte (Elementarteilchen)</a:t>
            </a:r>
            <a:br>
              <a:rPr sz="2400"/>
            </a:br>
            <a:r>
              <a:rPr b="0" lang="de-DE" sz="2000" spc="-1" strike="noStrike">
                <a:solidFill>
                  <a:srgbClr val="ffff66"/>
                </a:solidFill>
                <a:latin typeface="Times New Roman"/>
              </a:rPr>
              <a:t>(kein historisches Vorgeh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Times New Roman"/>
              </a:rPr>
              <a:t>Vielen Dank für Ihre Aufmerksamkeit!!</a:t>
            </a:r>
            <a:br>
              <a:rPr sz="6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Fragen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Anregungen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Kritik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Disk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tundentafel 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prachliches Gymna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tundentafel%20Spr" descr=""/>
          <p:cNvPicPr/>
          <p:nvPr/>
        </p:nvPicPr>
        <p:blipFill>
          <a:blip r:embed="rId1"/>
          <a:srcRect l="2725" t="15001" r="20045" b="21666"/>
          <a:stretch/>
        </p:blipFill>
        <p:spPr>
          <a:xfrm>
            <a:off x="533520" y="2057400"/>
            <a:ext cx="8305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Überblic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Landtag bzw. KM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undentafeln – Ausbildungsricht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3657600"/>
          <a:ext cx="6172200" cy="2476440"/>
        </p:xfrm>
        <a:graphic>
          <a:graphicData uri="http://schemas.openxmlformats.org/drawingml/2006/table">
            <a:tbl>
              <a:tblPr/>
              <a:tblGrid>
                <a:gridCol w="771480"/>
                <a:gridCol w="771840"/>
                <a:gridCol w="771480"/>
                <a:gridCol w="771480"/>
                <a:gridCol w="771480"/>
                <a:gridCol w="771480"/>
                <a:gridCol w="771480"/>
                <a:gridCol w="771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Nu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bisher 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Nu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bisher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Nu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tundenverteil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Verfügbare Stunden für ein einstündiges Fach: 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Für Leistungserhebungen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Für organisationsbed. Unterrichtsausfall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Für außerunterichtl. schulische Aktivitäten</a:t>
            </a:r>
            <a:br>
              <a:rPr sz="2400"/>
            </a:b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- </a:t>
            </a:r>
            <a:r>
              <a:rPr b="0" lang="de-DE" sz="2400" spc="-1" strike="noStrike" u="sng">
                <a:solidFill>
                  <a:srgbClr val="ffff66"/>
                </a:solidFill>
                <a:uFillTx/>
                <a:latin typeface="Times New Roman"/>
              </a:rPr>
              <a:t>fächerübergreifende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 Erweiterung, Vertiefung,</a:t>
            </a:r>
            <a:br>
              <a:rPr sz="2400"/>
            </a:b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  Differenzierung</a:t>
            </a:r>
            <a:br>
              <a:rPr sz="2400"/>
            </a:b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- </a:t>
            </a:r>
            <a:r>
              <a:rPr b="0" lang="de-DE" sz="2400" spc="-1" strike="noStrike" u="sng">
                <a:solidFill>
                  <a:srgbClr val="ffff66"/>
                </a:solidFill>
                <a:uFillTx/>
                <a:latin typeface="Times New Roman"/>
              </a:rPr>
              <a:t>fachliche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 Erweiterung, Vertiefung,</a:t>
            </a:r>
            <a:br>
              <a:rPr sz="2400"/>
            </a:b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  Differenzierung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de-DE" sz="2800" spc="-1" strike="noStrike">
                <a:solidFill>
                  <a:srgbClr val="ff9933"/>
                </a:solidFill>
                <a:latin typeface="Times New Roman"/>
              </a:rPr>
              <a:t>Zu verplanende Unterrichtsstunden        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9933"/>
                </a:solidFill>
                <a:latin typeface="Times New Roman"/>
              </a:rPr>
              <a:t>( 2 Stunden weniger als bisher; in Physik zusätzlich 5 Stunden Pool eingepla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zum Lehrpla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752480"/>
            <a:ext cx="7467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Stand März 200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Lehrplanbeirat: Lehrer, Schüler, Eltern, Wirtschaft, Hochschule, Verbände, Ver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662280"/>
            <a:ext cx="7620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Lehr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 wurden insgesamt 180 Lehrkräfte befra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avon hatten 74% im Mathematisch-naturwissenschaftlichen Gymnasium und 83% im Nichtmathematisch-naturwissenschaftlichen Gymnasien Unterrichtserfahr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der Physiklehrer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981080"/>
            <a:ext cx="7467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9933"/>
                </a:solidFill>
                <a:latin typeface="Arial"/>
              </a:rPr>
              <a:t>(Angaben in Prozent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66"/>
                </a:solidFill>
                <a:latin typeface="Arial"/>
              </a:rPr>
              <a:t>Die Stundenrichtwerte sind hilfr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ja 83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nein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66"/>
                </a:solidFill>
                <a:latin typeface="Arial"/>
              </a:rPr>
              <a:t>Sollten neue Inhalte aufgenommen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ja 40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nein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66"/>
                </a:solidFill>
                <a:latin typeface="Arial"/>
              </a:rPr>
              <a:t>Hat sich das bestehende Konzept der Addita bewäh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ja 70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nein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der Physiklehrer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600200"/>
            <a:ext cx="7467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66"/>
                </a:solidFill>
                <a:latin typeface="Arial"/>
              </a:rPr>
              <a:t>Sollen weitere Themenbereiche als Addita aufgenommen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ja 26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nein 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66"/>
                </a:solidFill>
                <a:latin typeface="Arial"/>
              </a:rPr>
              <a:t>Haben sich Lehrplanalternativen für Grundkurs bewäh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ja 74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nein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66"/>
                </a:solidFill>
                <a:latin typeface="Arial"/>
              </a:rPr>
              <a:t>Unterrichtserfahrung mit Grundkurs Astronom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ja 35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nein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66"/>
                </a:solidFill>
                <a:latin typeface="Arial"/>
              </a:rPr>
              <a:t>Unterrichtserfahrung Grundkurs Informati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ja 1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nein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fragung der Physiklehrer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181920" cy="2324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95280" y="4038480"/>
            <a:ext cx="62391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09:40:29Z</dcterms:created>
  <dc:creator>Norbert Schell</dc:creator>
  <dc:description/>
  <dc:language>en-US</dc:language>
  <cp:lastModifiedBy>werner</cp:lastModifiedBy>
  <dcterms:modified xsi:type="dcterms:W3CDTF">2002-10-13T22:35:12Z</dcterms:modified>
  <cp:revision>23</cp:revision>
  <dc:subject/>
  <dc:title>Fachsitzung Physik am 22.10.2001</dc:title>
</cp:coreProperties>
</file>