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52E3-5C43-44BF-B7BA-0D0011F183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0720" y="731880"/>
            <a:ext cx="4875120" cy="3655800"/>
          </a:xfrm>
          <a:prstGeom prst="rect">
            <a:avLst/>
          </a:prstGeom>
          <a:ln w="0">
            <a:noFill/>
          </a:ln>
        </p:spPr>
      </p:sp>
      <p:sp>
        <p:nvSpPr>
          <p:cNvPr id="11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heute ein zentrales Thema des Physikunterrichts. Das war nicht immer so. Ich erinnere mich noch gut an eine Zeit, in der der Energiebegriff  in der Sekundarstufe I fehlte – da war höchstens von Arbeit und der goldenen Regel der Mechanik die Rede und von Wärmemengen und vom sog. mechanisch-kalorischen Äquivalent. Energie galt damals als ein schwieriger Begriff, welcher der Oberstufenphysik vorbehalten war. Erst als die Energiekrise uns zu beuteln begann ist der Begriff auch in die Mittelstufenphysik eingedrungen und man hat gelernt in einfacher  und verständlicher Weise damit umzuge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bekanntlich eine Erhaltungsgröße – wir geben uns wenigstens die größte Mühe unseren Schülern das klar zu machen -  und es erscheint von daher eigentlich unverständlich, warum es eine Energiekrise geben sol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die Sache ist ganz einfach: Die sogenannte Energiekrise ist eigentlich gar keine solche, sie ist vielmehr eine Entropiekrise; nur können wir das Kind nicht beim richtigen Namen nennen, weil wir den Entropiebegriff in der Schule ausgeklammert haben. Die Situation ist heute hinsichtlich der Entropie so, wie sie vor 50 Jahren hinsichtlich der Energie war: Für die Sekundarstufe I viel zu abstrakt und schwierig – haben ja schon wir Lehrer unsere Schwierigkeiten mit diesem Begr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s nicht so sein müsste, dass man durchaus auch auf elementarem Niveau ein adäquates Verständnis  der Entropie erreichen könnte, ist das eine, was ich hier vermitteln möch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ndere, was ich noch zeigen möchte ist, dass die Trennung von Energie und Entropie nur unvollkommen und zudem nur auf begrenzte Zeit möglich ist. Nur in der Theorie kann die Trennung dann bestehen bleiben - in der realen Welt finden Energie und Entropie immer wieder zusamm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90720" y="731880"/>
            <a:ext cx="4875120" cy="3655800"/>
          </a:xfrm>
          <a:prstGeom prst="rect">
            <a:avLst/>
          </a:prstGeom>
          <a:ln w="0">
            <a:noFill/>
          </a:ln>
        </p:spPr>
      </p:sp>
      <p:sp>
        <p:nvSpPr>
          <p:cNvPr id="13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ollen die statistische Deutung an Hand eines Beispieles deutlich ma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stellen uns einen leeren Kasten vor mit einem kleinen Loch. Durch das Loch schießen wir 10 000 gleiche Atome mit einheitlicher Geschwindigkeit hinein – also einen monoenergetischen Gasstrahl. Dann machen wir das Loch zu, zu warten ab, was mit dem eingeschossenen Gas passiert. Die Wände des Kastens sind ideal elastisch, die Atome werden reflektiert und stoßen nun zufallsbedingt gegeneinander. Bei jedem Zusammenstoß wird die Summe der Energieen der beiden Partner neu auf beide verteilt, wobei jede Verteilung gleich wahrscheinlich i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90720" y="731880"/>
            <a:ext cx="4875120" cy="3655800"/>
          </a:xfrm>
          <a:prstGeom prst="rect">
            <a:avLst/>
          </a:prstGeom>
          <a:ln w="0">
            <a:noFill/>
          </a:ln>
        </p:spPr>
      </p:sp>
      <p:sp>
        <p:nvSpPr>
          <p:cNvPr id="13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kenntnis, das die Entropie sich durch diese völlig andere Formel beschreiben lässt, in der also Wärme und Temperatur nicht vorkommen, geht auf Ludwig Boltzmann zurück. Den Beweis muss ich Ihnen schuldig bleiben. Was man allenfalls machen könnte, um die Formel plausibel zu machen, wäre, dass man sie an Beispielen verifiziert. Das wäre verhältnismäßig einfach, z.B. bei einer isothermen Verdoppelung des Volumens eines idealen Gases; in Anbetracht der kurzen Zeit müssen wir uns aber sogar ein solche einfaches Beispiel verkneif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0720" y="731880"/>
            <a:ext cx="4875120" cy="3655800"/>
          </a:xfrm>
          <a:prstGeom prst="rect">
            <a:avLst/>
          </a:prstGeom>
          <a:ln w="0">
            <a:noFill/>
          </a:ln>
        </p:spPr>
      </p:sp>
      <p:sp>
        <p:nvSpPr>
          <p:cNvPr id="13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Entropie mit Ordnung und Unordnung zu tun hat, hat zeigt auch unser Computerspiel. Der Anfangszustand, bei dem alle Atome gleiche Energie hatten, zeigt größtmögliche Ordnung. Da gibt es nur einen Mikrozustand –   N = 1, also S = 0. Mit wachsender Unordnung, die der Zufall anrichtet, wächst die Entropie bis zu einem maximalwert, der durch die Energieerhaltung begrenz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Entropie nicht kleiner werden kann ein Maß für die Irreversibilität ist, kann man auch leicht einsehen: Vergleicht man 2 Zustände, so ist die Entropieänderung dS für den Übergang von 1 nach 2 so zu berechnen, und man kann das so umformen, dass aus der Differenz der Logarithmen der Logarithmus des Quotienten wird. Löst man nach dem Quotienten auf, so erhält man, wenn dS negativ ist, e hoch einer negativen Zahl von großem Betrag k im Nenner, also praktisch Null. Im gleichen Verhältnis stehen auch die Wahrscheinlichkeiten für die Realisation der Zustä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90720" y="731880"/>
            <a:ext cx="4875120" cy="3655800"/>
          </a:xfrm>
          <a:prstGeom prst="rect">
            <a:avLst/>
          </a:prstGeom>
          <a:ln w="0">
            <a:noFill/>
          </a:ln>
        </p:spPr>
      </p:sp>
      <p:sp>
        <p:nvSpPr>
          <p:cNvPr id="13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inmaliger Vorgang gelingt die Trennung zu 100%, mit ständig laufenden Maschinen nur mit geringerem Wirkungsgr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le real ablaufenden Prozesse sind irreversibel, d.h. sie erzeugen Entropie, die sich mit vorher entropiefreier Energie verquickt. So kommt das, was vorher evtl. durch Carnots List getrennt wurde, Entropie und Energie, am Ende doch wieder zusammen. Nehmen wir an, dass mit Hilfe einer Wärmekraftmaschine ein Baustein bis ins oberste Geschoss eines Neubaus gehoben wird, dann ist hoffentlich für sehr lange Zeit die von der Entropie befreite Energie im Schwerfeld der Erde, also als Lageenergie gespeichert. Aber wie lange steht so ein Haus? 100Jahre, 1000Jahre, irgendwann kollert der Stein zu Boden, das ist ein irreversibler Prozess, bei dem sich die Energie sich wieder mit dem Träger Entropie verquickt. Wenn man in erdgeschichtlichen Zeitmaßstäben denkt, dann wird sich auch die Lageenergie unserer Gebirge mit Entropie verbinden, usw. Soviel zur ewigen Trennung – die gibt es einfach nicht. Das Paar Entropie und Energie trennt sich manchmal auf einige Zeit, am Ende findet es aber wieder zusammen. Und man muss sagen, dass Energie, die frei von Entropie ist, also auf einem anderen Energieträger sich breit gemacht hat, allzu bereit ist, auf diesen Energieträger umzustei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Trennung der Energie von der  Entropie hat aber auch eine didaktische Dimension, auf die ich zum Schluss noch kommen möchte. Im Physikunterricht der Schule trennen wir das Paar, indem wir indem wir die Energie zu einem Lieblingsthema hochstilisieren, die Entropie aber weglassen. Es stellt sich daher die Frage, ob das so in Ordnung ist.</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90720" y="731880"/>
            <a:ext cx="4875120" cy="3655800"/>
          </a:xfrm>
          <a:prstGeom prst="rect">
            <a:avLst/>
          </a:prstGeom>
          <a:ln w="0">
            <a:noFill/>
          </a:ln>
        </p:spPr>
      </p:sp>
      <p:sp>
        <p:nvSpPr>
          <p:cNvPr id="14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te Frage ist: Ist die Entropie wichtig ? Natürlich ist sie wichtig für den Ingenieur, der kein Wärmekraftwerk vernünftig bauen könnte, wenn er nicht die Entropie beherrschte.Für die Schule ist das natürlich noch kein Argument, man könnte sagen: das ist Spezialwissen, das nicht zur Allgemeinbildung gehört. Aber da sagen auch die Chemiker der Schule: Wir brauchen die Entropie – ohne die könnten wir nicht erklären in welcher Richtung ein chemischer Prozess abläuft. Zuständig dafür, ob eine Reaktion überhaupt ablaufen kann, ist die Änderung der freien Energie G = dU + p dV – T dS. die negativ sein muss. Das ist durchaus Stoff des Chemieunterrichts. Die Chemiker fragen uns – warum behandelt ihr nicht die Entropie?, wir brauchen sie! Und die Biologen sagen heute auch: Für das Verständnis der Molekularbiologie ist die Entropie absolute Voraussetzung. In der Informatik spielt die Entropie für Datenmengen eine Rolle. Der Entropiebegriff spukt heute in so viele Gebiete herein, dass er sich mehr und mehr als eine interdisziplinäre Klammer entpuppt. Er ist also ein Stück Allgemeinbildung – ohne Zweif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meisten Physiker ist die Entropie ein Schreckgespenst. Woher kommt das? Ich sehe da zwei Grün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ns liegt das an der Art der Einführung, die bei uns an der Hochschule üblich ist! Da werden nämlich jene Deutungen der Entropie, die sich aus der Boltzmannschen ableiten, doch sehr in den Vordergrund gestellt. Solche Deutungen erfüllen den Studenten mit Ehrfurcht und Respekt – sie tragen einen Hauch von Mystik in sich – die Entropie als Maß für die Anzahl der Mikrozustände – wie zählt man denn überhaupt die Mikrozustände in diesem Würfel, so was können doch wohl nur wenige von Gott begnadete Theoretiker? Es wird kaum verraten, dass die Messung der Entropie über S = dQ/dT die einfachste Sache der Welt ist. Es ist wirklich nicht viel schwieriger als die Messung einer spezifischen Wär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uns die Entropie so wenig behagt, liegt zweitens auch daran, dass wir keine rechte Vorstellung davon haben, was Entropie eigentlich für eine Sache ist. Wir haben einfach kein passendes leicht fassliches Bild von ihr. Bei der Energie haben wir es da leichter, den Schülern klar zu machen, was das für eine Sache ist: Wenn ein Auto fahren soll, braucht es Benzin, wenn ein Elektromotor laufen soll, braucht er Strom, usw. Allgemein: Wenn sich was tun soll, dann braucht man Energie.die ist im Benzin enthalten und die wird durch den Strom herangebracht. Wenn man das an hinreichend vielen Beispielen exerziert, dann hat der Schüler so etwas wie eine adäquate Vorstellung von der Sache Energie. Aber können wir eine ähnlich leicht erfassbare Vorstellung von der Sache Entropie vermittel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ch, ja, es ginge schon, und zwar sehr viel einfacher, als man denken sollte: Wir sagen den Schülern einfach: Wenn wir in die Nähe einen heißen Körpers gehen,in die Nähe eines Ofens z.B., dann merken wir doch deutlich, dass da etwas herauskommt: Na was kommt da heraus? Wärme natürlich! Wärme ist Umgangssprache – in der Physik sagen wir ab jetzt dafür: Entropie. Und wenn wir einen Nagel in eine Flamme halten, dann geht Entropie aus der Flamme  in den Nagel  hinein, er nimmt die Entropie auf und wird so heiß, dass er glüht.Also Entropie ist immer das, was vom heißen Körper in den kälteren hineinfließt.Der Entropieinhalt des kälteren wird dann größer, seine Temperatur steigt dad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tzt werden Sie sagen: halt,halt, das geht doch nicht, Wärme und Entropie sind doch zwei Paar Stiefel, die kann man doch nicht gleichsetzen. Da haben sie freilich recht, wenn Sie den Begriff Wärme so verstehen, wie die Fachphysik es heute tut: Nämlich als jene Energie, die zusammen mit der Entropie aus der Flamme herauskomm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Fachphysik das aus der Umgangssprache genommene Wort Wärme für die von der Entropie getragene Energie verwendet, ist eigentlich eine didaktische Katastrophe. Die Katastrophe wird noch schlimmer, wenn statt des Wortes Wärme Wärmemenge verwendet wird, denn die Wärme – so wie sie in der Fachphysik verstanden wird – hat eben keine Mengeneigenschaft – sie kann in keinem Körper enthalten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0720" y="731880"/>
            <a:ext cx="4875120" cy="3655800"/>
          </a:xfrm>
          <a:prstGeom prst="rect">
            <a:avLst/>
          </a:prstGeom>
          <a:ln w="0">
            <a:noFill/>
          </a:ln>
        </p:spPr>
      </p:sp>
      <p:sp>
        <p:nvSpPr>
          <p:cNvPr id="14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gäbe einen einfachen Weg, um diese Katastrophe aus der Welt zu schaffen: Wir verbannen den Begriff Wärme aus der Fachsprache der Physik. Es gibt ja doch überhaupt keinen Grund, der zusammen mit der Entropie vom einen Körper auf den anderen fließenden Energie einen besonderen Namen zu geben. Wärme bleibe in Zukunft als Wort der Umgangssprache außen v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ür die Entsorgung der Wärme aus der Fachsprache der Physik gibt es auch noch einen anderen Grund: Wärme ist keine normale Größe wie Volumen Druck, Temperatur, sondern eine Prozessgröße, also etwas ganz Zwielichtiges: wenn Wärme in einen Körper hineinfließt, ist sie nicht drin. Es gibt keinen Wärmeinhalt! Die Entropie ist da viel vernünftiger, wo sie hineinfließt, ist sie auch d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rme hat sich als Fachbegriff in der Physik leider etabliert – er meint als solcher die mit der Entropie zusammen transportierte Energie. Wir Lehrer können den Fachbegriff Wärme nicht aus der Physik hinauswerfen – unser Arm ist zu kurz. Und doch können wir was gegen diesen Zwielichtigen Gesellen tun: Wir schweigen ihn tot. Wir erklären die Wärme zur Ungröße, so wie man in totalitären Systemen unerwünschte Personen zu Unpersonen machte, indem man ihre Existenz systematisch totschwieg. Wir sagen einfach im Physikunterricht nicht mehr Wärme, sondern sprechen von der Energie die einem Körper mit der Entropie zufließ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Energie von einem System zum andern transportiert wird, so geschieht das – genau besehen – niemals allein, sondern immer zusammen mit einem anderen Energieträger, der strömen kan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0720" y="731880"/>
            <a:ext cx="4875120" cy="3655800"/>
          </a:xfrm>
          <a:prstGeom prst="rect">
            <a:avLst/>
          </a:prstGeom>
          <a:ln w="0">
            <a:noFill/>
          </a:ln>
        </p:spPr>
      </p:sp>
      <p:sp>
        <p:nvSpPr>
          <p:cNvPr id="14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ist eine Sache, die strömen kann, so wie elektrische Ladung. Auch diese Analogie sollten wir ausnutzen, um vertrauter mit ihr zu werden. Ein Entropiestrom bezieht sich immer auf einen Querschnitt und gibt an, wie viel Entropie pro Sekunde durch den Querschnitt fließt – die Analogie mit dem elektrischen Strom liegt auf der Hand. Genau so, wie der elektrische Strom einen Energiestrom mit sich trägt, trägt auch der Entropiestrom einen Energiestrom mit sich, den wir bekommen wenn wir mit der zuständigen intensiven Größe multipliz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haben gesehen, dass Energie, die entropiefrei gespeichert ist, z.B. im Schwerefeld der Erde, allzu gerne bereit ist, den Energieträger zu wechseln und auf Entropie als Träger umzusteigen. Dann ist ihr weiterer Weg an den der Entropie gebunden. Die Entropie sagt dann, wo‘s lang geht: dem Gefälle der Temperatur nach nämlich. Sie sehen also, dass dieses Paar Entropie-Energie sich so verhält, wie wir es aus den meisten guten Ehen kennen. Irgend wann wird der eine Partner bestmmend und sagt, wos lang g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m Schluss möchte ich noch darauf hinweisen, dass ich für diesen Vortrag viel aus der Lektüre des  KPK gewonnen habe, den ich Ihnen durchaus empfehlen kann. Auch viele der einfachen Zeichnungen habe ich aus dem Kurs genommen, der übrigens die Entropie schon in der Sekundarstufe I, und zwar in der 8. Jahrgangsstufe bri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0720" y="731880"/>
            <a:ext cx="4875120" cy="3655800"/>
          </a:xfrm>
          <a:prstGeom prst="rect">
            <a:avLst/>
          </a:prstGeom>
          <a:ln w="0">
            <a:noFill/>
          </a:ln>
        </p:spPr>
      </p:sp>
      <p:sp>
        <p:nvSpPr>
          <p:cNvPr id="14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lls Sie sich fundierter über Entropie informieren möchten, kann ich Ihnen dazu den Band W der Dorn Bader Physik empfehlen, sehr klar und präzise und dennoch verständlich von Bergold geschrie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man die Entropie schon in der Sek.I einführen könnte finden Sie im Detail ausgearbeitet im Karlsruher Physikkurs, das sind 3 Bände; für eine Orientierung genügt aber der Lehrer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das was ich ketzerisch zuletzt mehr angedeutet als ausgeführt habe, finden sie in dem interessant zu lesenden Band Altlasten geschrieben von Herrmann und Jo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90720" y="731880"/>
            <a:ext cx="4875120" cy="3655800"/>
          </a:xfrm>
          <a:prstGeom prst="rect">
            <a:avLst/>
          </a:prstGeom>
          <a:ln w="0">
            <a:noFill/>
          </a:ln>
        </p:spPr>
      </p:sp>
      <p:sp>
        <p:nvSpPr>
          <p:cNvPr id="11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Ihnen jemand die Frage stellt, was Wärme ist,  werden sie vielleicht antworten: Klar doch: Wärme ist Energie! Aber: was aus der Steckdose kommt ist auch Energie.  Die Antwort ist also unbefriedigend, solange nicht gesagt wird, was das Besondere an der Wärmeenergie ist. Sie sehen: Jetzt wird’s schon schwier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antworten: Wärme ist die Energie, die z.B. aus einer Flamme oder einem Heizkörper kommt. Dann wird die Sache schon kla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er sagen wir es gleich noch deutlicher: Aus jeder Wärmequellen kommt immer – zusammen mit der Energie auch Entropie, so wie aus der Steckdose die Energie zusammen mit dem Strom kommt. So ähnlich wie ein elektrischer Strom Energie mit sich trägt, so trägt der von einer Wärmequelle ausgehende Entropiestrom eben auch Energie mit sich, die wir dann Wärme nennen. Ich stelle diese Behauptung jetzt einfach einmal in den Raum, werde sie aber noch begrü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erstellen wir also einmal für den Anfang, dass es so etwas wie einen besonderen Energieträger gibt, der Entropie heißt, und dass aus jeder Wärmequelle ein solcher Entropiestrom, der gleichzeitig Energie mit sich führt, heraus kommt. Dann erhebt sich die Frage: Wie kann ich die mitgeführte Energie, die heute doch so begehrte Ware, von der weniger begehrten Entropie abtrennen und für andere Aufgaben, z.B. zum heben einer Last nu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 scheint zunächst ganz einfach zu gehen. Ich nehme z.B. diese Gasspritze und führe dem Gas den ganzen Strom von Wärme und Entropie, der aus meiner Hand kommt, eine zeitlang zu. Das Gas dehnt sich dabei aus und schiebt einen Kolben vor sich her, der eine Last heben kann. Wenn ich es geschickt anstelle, wird das Gas seine Temperatur beibehalten und daher die ganze, von der Hand aufgenommene Wärme in Arbeit in Arbeit umsetzen. Die mit der Entropie zugeflossene Energie sitzt jetzt außen in der Last, die Entropie selbst in der Spritze. Die Trennung scheint also gelungen, entgegen der Behauptung meines Vortragst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n ist aber das, was wir eben durchgespielt haben, ein einmaliger Prozess. Wenn uns eine Wärmequelle einen ständig fließenden Strom von Entropie und Energie zur Verfügung stellt, muss der Prozess ständig wiederholt werden, er muss sich in einer periodisch arbeitenden Maschine abspielen. Und dabei muss die Gasspritze am Ende einer jeden Periode die Entropie, die ja noch drinsteckt, wieder los werden. Mit der abgegebenen Entropie wird aber auch wieder Energie nach außen nutzlos abgegeb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drängt sich ein Vergleich mit einem Wasserrad auf, das von einem Wasserstrom angetrieben wird. Das oben ankommende Wasser (= Entropie) führt potenzielle Energie (Höhe h1) mit sich, das abfließende Wasser nimmt aber einen Teil dieser Energie wieder mit (Höhe 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jetzt sagen: Der Vergleich ist ja ganz nett, aber so überzeugend auch wieder nicht: Ich habe zwar schon Wasser fließen sehen, aber noch nie fließende Entropie. Was ist das eigentlich -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0720" y="731880"/>
            <a:ext cx="4875120" cy="3655800"/>
          </a:xfrm>
          <a:prstGeom prst="rect">
            <a:avLst/>
          </a:prstGeom>
          <a:ln w="0">
            <a:noFill/>
          </a:ln>
        </p:spPr>
      </p:sp>
      <p:sp>
        <p:nvSpPr>
          <p:cNvPr id="11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as ist das für ein geheimnisvoller Stoff, der zusammen mit Energie jede Wärmequelle ver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auen wir uns dazu einen periodisch arbeitenden Wärmemotor an. Das ist ein Zylinder, in dem ein beweglicher Kolben ein Arbeitsgas abschließt. Der Kolben läuft hin und her und treibt ein Schwungrad an. Dabei spielt sich  bei jeder Umdrehung des Rades ein Kreisprozess ab. Es sind verschiedenartige Kreisprozesse möglich. Auch das Arbeitsgas in dem Motor kann unterschiedlich sein: Wasserdampf, Luft oder irgend ein anderes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Carnot betrachten wir jetzt einen ganz speziellen Kreisprozess mit einem idealen Gas, der von zwei Isothermen und zwei Adiabaten begrenzt wird. Zunächst entzieht das Gas bei isothermer Expansion der Warmequelle die Wärme Q, dehnt sich aus und verrichtet dabei Arbeit. Ab hier wird die Wärmequelle abgeschaltet, das Gas dehnt sich jetzt bei seiner Abkühlung nur noch adiabatisch aus und verrichtet noch etwas Expansionsarbeit, bis Punkt 3 erreicht ist. Die Temperatur des Gases sinkt auf  T0. Dann wird das Gas isotherm komprimiert, wobei dem Schwungrad Arbeit entzogen wird und das Arbeitsgas an einen Kühler Wärme Q0 abgeben muss. Die Temperatur bleibt auf niedrigem Niveau T0 bis zum Punkt 4, der so bestimmt ist, dass bei der anschließenden adiabatischen Kompression (also ohne Wärmeabgabe) wieder der Ausgangspunkt 1 erreicht wird und der Zyklus sich schließ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Rechnung, die ich aber hier unterschlagen will, zeigt Q/T = Q0/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Quotienten Q/T, der hier zweimal auftritt und zweimal den gleichen Wert hat, das genau ist die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definieren also S = Q/T. Dann wird beim Kreisprozess hier genau so viel Entropie aufgenommen, wie hier abgefü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werden jetzt vielleicht einwenden: Gut, man kann der Rechengröße Q/T natürlich den Namen Entropie geben, aber das rechtfertigt noch lange nicht, sie als etwas Grundlegendes zu akzeptieren. Denn die Gleichheit von aufgenommener und ausgeschiedener Entropie wurde hier ja bei einem sehr speziellen  Arbeitsgas (nämlich einem idealen Gas) bei einem sehr speziellen Kreisprozess gewo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konnte aber durch einen genialen und witzigen Gedankenversuch zeigen, dass die uns zunächst an einen sehr speziellen Kreisprozess noch dazu mit einem idealen Gas gebundene Rechengröße S=Q/T eine viel allgemeinere und fundamentale Bedeutung 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muss dazu wissen, dass der Carnotsche Wärmemotor auch als Wärmepumpe arbeiten kann. Wenn man die Laufrichtung des Schwungrades umkehrt, so kann man alle Vorgänge des Kreisprozesses in umgekehrter Richtung durchlaufen. Die Maschine arbeitet reversibel, wie man sagt und nimmt nun bei jeder Umdrehung die Energie Q0 = T0 S aus dem unteren Energiereservoir und gibt Q= T S ans obere a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0720" y="731880"/>
            <a:ext cx="4875120" cy="3655800"/>
          </a:xfrm>
          <a:prstGeom prst="rect">
            <a:avLst/>
          </a:prstGeom>
          <a:ln w="0">
            <a:noFill/>
          </a:ln>
        </p:spPr>
      </p:sp>
      <p:sp>
        <p:nvSpPr>
          <p:cNvPr id="12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hat nun so argumentiert: Angenommen, es kommt ein Erfinder zu mir, der mir eine  Maschine bringt, die mit einem besseren Wirkungsgrad arbeitet als meine Maschine, dann könnte ich damit ein Perpetuum mobile zweiter Art bau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besten macht man das an einem Beispiel klar: </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äbe es z.B. ein zwischen T = 1000K und T0 = 400K arbeitende Super-Carnot-Maschine mit 70% WG, so ließe sie sich mit einer umgekehrt arbeitenden Carnot-Maschine  zusammenspannen. Man hätte dann ein Aggregat, das nichts anderes bewirkt, als Wärme aus einem Reservoir mit 400K zu schöpfen und in mechanische Arbeit zu verwandeln</a:t>
            </a:r>
            <a:r>
              <a:rPr b="0" lang="de-DE"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Überlegung zeigt, dass der Quotient Q/T doch eine viel weitreichendere Bedeutung hat: Jede periodisch zwischen den Temperaturniveaus T und T0 arbeitende Wärmeenergiemachine muss mindestens die ganze bei T aufgenommene Entropie bei T0 wieder abgeben.  In aller Regel muss sie sogar auf dem unteren Niveau mehr Entropie abgeben, als sie oben aufgenommen hat, nämlich wenn sie nicht reversibel arbeitet, das werde ich noch ze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habe hier natürlich die Überlegungen Carnots in die uns heute geläufige Fachsprache übersetzt und in einer Form wiedergegeben in die sie Clausius einige Jahrzehnte nach Carnot gebracht hat. Carnot im Origalton zu verstehen wäre sehr schwierig – z.B. war zu seiner Zeit der Energiebegriff noch nicht 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0720" y="731880"/>
            <a:ext cx="4875120" cy="3655800"/>
          </a:xfrm>
          <a:prstGeom prst="rect">
            <a:avLst/>
          </a:prstGeom>
          <a:ln w="0">
            <a:noFill/>
          </a:ln>
        </p:spPr>
      </p:sp>
      <p:sp>
        <p:nvSpPr>
          <p:cNvPr id="12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Carnot seine Überlegungen über die mögliche Verbesserung von Wärmekraftmaschinen anstellte, waren die Zustandsgleichung von Gasen zwar schon bekannt – sie geht auf Gay-Lussac zurück und war schon ein Jahrzehnt bekannt. Es fehlte aber natürlich der Energiebegriff – da sind Robert Mayer, James P.Joule und Hermann von Helmholtz zu nennen. Der Energiebegriff wurde erst durch Helmholtz bekannt 50 Jahre später. Zu Carnots Zeiten wurde die Wärme noch als Stoff gesehen, das sog. Caloricum; Graf Rumford machte noch erfolglose Versuche das Gewicht des Caloricums nachzuwei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man also heute Carnots Gedanken wiedergibt, dann bedient man sich der modernen Terminologie und stellt die Gedanken Carnots in einer Form dar, in die sie von Clausius fast 50 Jahre später gebracht h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90720" y="731880"/>
            <a:ext cx="4875120" cy="3655800"/>
          </a:xfrm>
          <a:prstGeom prst="rect">
            <a:avLst/>
          </a:prstGeom>
          <a:ln w="0">
            <a:noFill/>
          </a:ln>
        </p:spPr>
      </p:sp>
      <p:sp>
        <p:nvSpPr>
          <p:cNvPr id="12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agen Sie jetzt: Naja, ich sehe ja ein, dass die Entropie eine wichtige Begriffsbildung  ist, aber ich habe immer noch keine fließen sehen. Sie haben uns das so aufgeredet, als sei die Entropie so etwas Konkretes, wie etwa di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werde versuchen, die Entropie weiter zu konkre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einmal, die Energie ist eine Zustandsgröße, im Gegensatz zur Wärme, die keine solche harmlose anständige Größe ist, sondern etwas Zwielichtiges; eine Prozessgröße. Ich zeige ihnen am einfachsten am Beispiel eines Gases, was damit gemeint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gram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jeden Körper könnte man draufschreiben, wie viel Entropie da drin ist bei einer bestimmten Temperatur. So enthält dieser Kupferklotz jetzt z.B. die Entropie  125 J/K oder kurz 125 Carnot enthalten. Bei der doppelten absoluten Temperatur wäre es etwa doppelt sov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einesfalls könnte ich auf diesem Körper eine Angabe machen über den Wärmeinhalt machen – es ist vielmehr sinnlos von einem Wärmeinhalt zu spre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stellt an unser begriffliches Vorstellungsvermögen keine allzu großen Anforderungen. Sie hat nämlich Mengencharakter, das ist etwas, was die Vorstellung sehr erleichtert – im Gegensatz zu anderen GRößen, z.B. der Temperatur. Was genau damit gemeint ist, zeigt die nächste Fo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Entropie kann auch flie0en, so wie wir es z.B. von elektrischer Ladung k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nerell kann man sagen, dass bei allen Reibungsprozessen Entropie entsteht und sich mit Energie belädt. Dagegen gibt es keine Möglichkeit Entropie zu vernichten: Wenn es die gäbe, würde Carnot sehr schnell eine Maschine daraus basteln, die dem 2.Hauptsatz widerspr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s was bisher über Entropie berichtet wurde, lässt sie uns keineswegs als schwierig erscheinen. Aber jetzt kommen wir zur statistischen Deutung – da wird es anspruchsv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einzige, was diesen „Stoff Entropie“ etwas seltsam erscheinen lässt, ist die Tatsache, dass sie zwar erzeugt, aber nicht vernichtet werden kan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90720" y="731880"/>
            <a:ext cx="4875120" cy="3655800"/>
          </a:xfrm>
          <a:prstGeom prst="rect">
            <a:avLst/>
          </a:prstGeom>
          <a:ln w="0">
            <a:noFill/>
          </a:ln>
        </p:spPr>
      </p:sp>
      <p:sp>
        <p:nvSpPr>
          <p:cNvPr id="12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sagt auch: Entropie ist eine additive Größe: Wenn ich in zwei Kartoffeln mit dem Entropieinhalt 20 J/K und eine mit 30 J/K hat, und beide in einen Sack steckt, dann enthält der eben 50 J/K. Andere additive Größen sind z.B. die Masse, oder die elektrische Ladung, oder auch der Impuls (nur muss da die Addition vektoriell verstehe) und auch die Energie. Ein typisches Beispiel einer nicht-additiven ist die Tempertur: Wenn das Wasser im einen Glas 20 Grad im andern 30 Grad hat, dann hat das ganze eben nicht 50 G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dditivität einer Größe beeinflußt auch unsere Redeweise. Bei additiven Größen können wir immer sagen: ... ist enthalten in, wenn wir das auch nicht ganz konsequent tun. Wir können nicht sagen 50 Grad sind enthalten in dem Kaffe in meiner Tasse. Es ist nicht sonnvoll vom Temperaturinhalt des Kaffees zu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trale Sprechweise ... hat  ist dagegen immer anwendbar, sie lässt aber etwas die Anschaulichkeit, die dem Verständnis eine Hilfe sein kann, unter den Tisch fallen.Als Lehrer sollten wir auf solche Kleinigkeiten auch achten. Auf der anderen Seite kommen wir uns dann selbst komisch vor, wenn wir vom Ladungs- usw. Inhalt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0720" y="731880"/>
            <a:ext cx="4875120" cy="3655800"/>
          </a:xfrm>
          <a:prstGeom prst="rect">
            <a:avLst/>
          </a:prstGeom>
          <a:ln w="0">
            <a:noFill/>
          </a:ln>
        </p:spPr>
      </p:sp>
      <p:sp>
        <p:nvSpPr>
          <p:cNvPr id="12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fließt immer von der höheren zu niedrigeren Temperatur, wie man das wohl auch erwar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n ersten beiden Bildern sehen wir zwei Wärmereservoirs unterschiedlicher Temperatur, die durch verschieden lange und dicke Kupferstangen verbund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obachtet, dass in allen Fällen Wärme vom heißeren zum kälteren Niveau fließt. In den Stäben hat man einen Wärmestrom IS, der als durch den Querschnitt tretende Entropie durch Zeit definier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besteht eine weitgehende formale Analogie zum elektrischen St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auffälliger Unterschied ist allerdings der, dass die Stromstärke in den Stäben von links nach rechts zunimmt. Wie das zugeht, weren wir gleich seh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0720" y="731880"/>
            <a:ext cx="4875120" cy="3655800"/>
          </a:xfrm>
          <a:prstGeom prst="rect">
            <a:avLst/>
          </a:prstGeom>
          <a:ln w="0">
            <a:noFill/>
          </a:ln>
        </p:spPr>
      </p:sp>
      <p:sp>
        <p:nvSpPr>
          <p:cNvPr id="13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sind einige Situationen abgebildet, die mit Entropieerzeugng verknüpft sind. Zuerst mal die Flamme, also der Verbrennungsprozess, bei dem im Wachs gespeicherte Bindungsenergie freigesetzt und gleichzeitig Entropie erzeugt wird. Man könnte sagen: Die Energie wird hier vom Träger Kerzenwachse umgeladen auf  den Träger Entrop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sieht man einen Akku, der mit einem Widerstandsdraht kurzgeschlossen wird. Der Draht kommt zum glühen und gibt die mit dem elektrischen Strom ihm zugeflossene Energie in Form von Wärme ab. Auch hier hier ist es die Entropie, welche die Energie weiterträgt. Hier wird die Energie vom Träger „elektrischer Strom“ umgeladen auf den Träger Entropie, wobei die Entropie erst dabei erzeug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der im nächsten Bild wird eine Kiste über einen rauen Boden gezerrt.Der Kiste fließt dabei übers Seil Energie zu. Wenn man es genauer hinsieht, wird die Energie hier auch von einem Strom getragen, nämlich von einem Impulsstrom dp/dt. Dabei entsteht Entropie, welche die durch das Seil zufließende Energie auf die reibenden Flächen verteilt. Man könnte hier sagen, dass die mit der vom Impulsstrom durch das Seil übertragene Energie auf den Energieträger Entropie umgeladen wird. Die Entropie entsteht erst durch die Reib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wird ein Kupferstab an einem Ende durch eine Flamme erhitzt, am anderen mit Wasser gekühlt. Der Stab ist wärmeisoliert und wir nehmen an, dass die ganze links aufgenommene Wärme rechts ans Wasser abgegeben wird. Der in den Stab hineingehende Wärmestrom ist gleich dem rechts herauskommenden. Mit dem Entropiestrom ist das aber anders: Rechts kommt mehr Entropie heraus als links hineingeflossen ist, denn rechts ist die Temperatur niedriger als links, also ist auch dQ/Tlinks&gt; dQ/Trechts. Auch hier könnte man sagen, dass Entropie durch Reibung erzeugt wird, denn der Kupferstab hat einen Entropiewiderstand – das Fließen der Entropie durch den Widerstand ist so etwas wie Reib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m letzten Bild hat man einen Behälter, in dem sich  links Luft befindet, rechts Vakuum. Zieht man den Schieber hoch, so entspannt sich die Luft und füllt plötzlich den ganzen Behälter aus. Der turbulent ablaufende Vorgang stört das thermische Gleichgewicht im Gas, das sich aber von selbst wieder einstellt. Dabei nimmt die Entropie z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gibt noch viele andere Prozesse, bei welchen Entropie entsteht. Gemeinsam ist allen, dass sie irreversibel sind. Würde man solche Prozesse filmen und den Film dann verkehrt rum ablaufen lassen, dann würde das jeder sofort als unmöglich merken. Alle Vorgänge, bei denen sich ein gestörtes thermisches Gleichgewicht wieder einstellt, sind mit Energieerzeugung verknüp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n ersten drei Beispielen ist eines gemeinsam: Anderweitig gebundene Energie kettet sich in diesen Vorgängen an Entropie. Ein Paradebeispiel ist der Stein, der herunterfällt, wobei aus der Lageenergie (die also nichts mit Entropie zu tun hat) Wärme wird, also an Entropie gebunden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komme jetzt noch einmal auf die Überschrift meines Vortrags zurück: Energie und Entropie ein unzertrennliches Paar? Naja, wir haben jetzt gesehen: Ganz unzertrennlich sind die beiden zunächst mal nicht, aber die Trennung gelingt eben nur bis zu einem gewissen Prozentsatz, der von den zur Verfügung stehenden.Temperaturniveaus abhängt. Und auf ewig ist die Trennung nicht. Schauen wir z.B. einen Stein an, der im obersten Stockwerk eines Hochhauses verbaut ist. Da ist Lageenergie gespeichert – keine Verkettung mit Entropie. Aber wie lange steht ein Hochhaus? 100 Jahre, 1000, da habe ich meine Zweifel. Denkt man in erdgeschichtlichen Maßstäben, dann wird das Hochhaus zusammenfallen oder abgerissen, der Stein fällt herunter, die Lageenergie bindet sich an Entropie.Oder denken wir an den Mond, der in seinem Umlauf um die Erde eine große Menge Lageenergie und kinetische Energie gespeichert hat. Der Mond erzeugt Gezeiten, die Gezeitenreibung zehrt an der so gespeicherten Energie und verbindet das, was sie weggezehrt hat mit Entropie. Sie sehen: Die Entropie holt sich das, was man ihr an Energie entrissen hat durch irgendwelche Tricks aus Carnots Westentasche – die Entropie holt sich das zurück, wenn man lange genug wart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EBDE1-0C01-4230-BD9E-1E834D033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78D8-62BE-4109-8F20-F46A908B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71A62-9F1C-45D0-871A-374BCF976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5EA4F-0097-463E-BC91-BA0BC7D77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43327-675E-471D-BFD6-756934E1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B9EFF-98E4-4305-AE89-4B64C163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D69A8-CFFD-4D0D-BCD3-18A8C2DED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CB20-B459-408B-8D67-E97CB3A5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E4434-43BA-425B-A3B8-0D4D5B01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5400-3223-4277-B496-B1EB9974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46C2-60CC-49E5-8C4E-DB40C6EA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DBC9-D359-4643-875E-402AED6B3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AF70-C26F-43F9-BFAC-DB25DEAD6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VB\Gase\Boltzmann.exe"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D:\VB\Gase\ZUSTAND.EXE" TargetMode="Externa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 Target="slide6.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371240"/>
            <a:ext cx="6095880" cy="1143000"/>
          </a:xfrm>
          <a:prstGeom prst="rect">
            <a:avLst/>
          </a:prstGeom>
          <a:solidFill>
            <a:srgbClr val="3366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ie und Entropie –</a:t>
            </a:r>
            <a:br>
              <a:rPr sz="4400"/>
            </a:br>
            <a:r>
              <a:rPr b="0" lang="en-US" sz="3600" spc="-1" strike="noStrike">
                <a:solidFill>
                  <a:srgbClr val="ffff66"/>
                </a:solidFill>
                <a:latin typeface="Times New Roman"/>
              </a:rPr>
              <a:t>ein unzertrennliches Paar</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72000" y="5181480"/>
            <a:ext cx="403848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mut Dittman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daktik der Physik Erla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 Weg zum thermischen Gleichgewicht</a:t>
            </a:r>
            <a:endParaRPr b="0" lang="en-US" sz="4400" spc="-1" strike="noStrike">
              <a:solidFill>
                <a:srgbClr val="000000"/>
              </a:solidFill>
              <a:latin typeface="Times New Roman"/>
            </a:endParaRPr>
          </a:p>
        </p:txBody>
      </p:sp>
      <p:sp>
        <p:nvSpPr>
          <p:cNvPr id="98" name="PlaceHolder 2"/>
          <p:cNvSpPr>
            <a:spLocks noGrp="1"/>
          </p:cNvSpPr>
          <p:nvPr>
            <p:ph/>
          </p:nvPr>
        </p:nvSpPr>
        <p:spPr>
          <a:xfrm>
            <a:off x="228600" y="1676520"/>
            <a:ext cx="82296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ine Gasportion bestehe aus 10000 gleichen Atomen, die zunächst alle die gleiche Energie haben sollen , nämlich jedes genau 30 Energieeinheiten (EE).</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ie Atome bewegen sich in einem beschränkten Volumen und stoßen zufallsbedingt aufeinande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Für jeden Stoß gil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1 + E2 = E1‘ + E2‘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und jede neue Aufteilung E1‘ + E2‘ ist gleich wahrscheinlich.</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Aus der anfänglichen streng geordneten Verteilung der Energie entwickelt sich eine neue.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Wie sieht sie au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99" name="">
            <a:hlinkClick r:id="rId1"/>
          </p:cNvPr>
          <p:cNvSpPr/>
          <p:nvPr/>
        </p:nvSpPr>
        <p:spPr>
          <a:xfrm>
            <a:off x="6781680" y="58672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atistische Deutung der Entropi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Jeder Makrozustand Z kann i. a. durch eine große Zahl N von Mikrozuständen realisiert werden.</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as Wärmegeschehen treibt jeden Anfangszustand  jenem Zustand zu, für welchen die Zahl N der Mikrozustände ein Maximum ist. </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ie Wahrscheinlichkeit für diesen Zustand ist dann maximal.</a:t>
            </a:r>
            <a:endParaRPr b="0" lang="en-US" sz="2400" spc="-1" strike="noStrike">
              <a:solidFill>
                <a:srgbClr val="000000"/>
              </a:solidFill>
              <a:latin typeface="Times New Roman"/>
            </a:endParaRPr>
          </a:p>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Für einen Makrozustand Z, der durch N Mikrozustände realisiert werden kann ist die Entropie</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1" lang="de-DE" sz="2400" spc="-1" strike="noStrike">
                <a:solidFill>
                  <a:srgbClr val="ffff66"/>
                </a:solidFill>
                <a:latin typeface="Times New Roman"/>
              </a:rPr>
              <a:t>S = k*ln N</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it   k = 1,38 *10-23 J/ K.</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erwandte Deutungen der Entropie</a:t>
            </a:r>
            <a:endParaRPr b="0" lang="en-US" sz="4400" spc="-1" strike="noStrike">
              <a:solidFill>
                <a:srgbClr val="000000"/>
              </a:solidFill>
              <a:latin typeface="Times New Roman"/>
            </a:endParaRPr>
          </a:p>
        </p:txBody>
      </p:sp>
      <p:sp>
        <p:nvSpPr>
          <p:cNvPr id="103"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Unordnun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a:t>
            </a:r>
            <a:r>
              <a:rPr b="1" i="1" lang="de-DE" sz="3200" spc="-1" strike="noStrike">
                <a:solidFill>
                  <a:srgbClr val="ffff66"/>
                </a:solidFill>
                <a:latin typeface="Times New Roman"/>
              </a:rPr>
              <a:t> Irreversibilität</a:t>
            </a:r>
            <a:r>
              <a:rPr b="0" lang="de-DE" sz="3200" spc="-1" strike="noStrike">
                <a:solidFill>
                  <a:srgbClr val="ffff66"/>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   </a:t>
            </a:r>
            <a:r>
              <a:rPr b="0" lang="de-DE" sz="3200" spc="-1" strike="noStrike">
                <a:solidFill>
                  <a:srgbClr val="ffff66"/>
                </a:solidFill>
                <a:latin typeface="Times New Roman"/>
              </a:rPr>
              <a:t>dS = k*ln N2 – k*ln N1 = k*ln(N2/N1),           also        N2/N1 = Exp (dS/k)</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Information, </a:t>
            </a:r>
            <a:r>
              <a:rPr b="0" lang="de-DE" sz="3200" spc="-1" strike="noStrike">
                <a:solidFill>
                  <a:srgbClr val="ffff66"/>
                </a:solidFill>
                <a:latin typeface="Times New Roman"/>
              </a:rPr>
              <a:t>die man benötigt, um den gerade vorliegenden Mikrozustand eindeutig zu erfah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ind Energie und Entropie wirklich unzertrennlich?</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gelingt in periodisch arbeitenden Maschinen nur unvollkommen und nur bis zu einem gewissen Prozentsatz.</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ist nie auf ewig. Energie die von Entropie frei ist, steigt „gerne“ auf den Energieträger Entropie um.</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ennung von Energie und Entropie ist auch eine didaktische 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ie didaktische Seite der Entropie</a:t>
            </a:r>
            <a:endParaRPr b="0" lang="en-US" sz="4400" spc="-1" strike="noStrike">
              <a:solidFill>
                <a:srgbClr val="000000"/>
              </a:solidFill>
              <a:latin typeface="Times New Roman"/>
            </a:endParaRPr>
          </a:p>
        </p:txBody>
      </p:sp>
      <p:sp>
        <p:nvSpPr>
          <p:cNvPr id="107" name="PlaceHolder 2"/>
          <p:cNvSpPr>
            <a:spLocks noGrp="1"/>
          </p:cNvSpPr>
          <p:nvPr>
            <p:ph/>
          </p:nvPr>
        </p:nvSpPr>
        <p:spPr>
          <a:xfrm>
            <a:off x="914400" y="1981080"/>
            <a:ext cx="7772400" cy="381024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t die Entropie wichtig – und zwar auch im Sinne der Allgemeinbildun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ran liegt es, dass uns die Entropie so schwierig erschein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önnen wir eine einfache adäquate Vorstellung von der Sache „Entropie“ vermittel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ärme - eine Altlast der Physik</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ärme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att „Wärme“: Energie, die einem Körper mit der Entropie zufließ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rbeit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s ist überflüssig von Energie</a:t>
            </a:r>
            <a:r>
              <a:rPr b="0" i="1" lang="en-US" sz="3200" spc="-1" strike="noStrike">
                <a:solidFill>
                  <a:srgbClr val="ffff66"/>
                </a:solidFill>
                <a:latin typeface="Times New Roman"/>
              </a:rPr>
              <a:t>formen</a:t>
            </a:r>
            <a:r>
              <a:rPr b="0" lang="en-US" sz="3200" spc="-1" strike="noStrike">
                <a:solidFill>
                  <a:srgbClr val="ffff66"/>
                </a:solidFill>
                <a:latin typeface="Times New Roman"/>
              </a:rPr>
              <a:t> zu unterscheiden. Es gibt nur</a:t>
            </a:r>
            <a:r>
              <a:rPr b="0" i="1" lang="en-US" sz="3200" spc="-1" strike="noStrike">
                <a:solidFill>
                  <a:srgbClr val="ffff66"/>
                </a:solidFill>
                <a:latin typeface="Times New Roman"/>
              </a:rPr>
              <a:t> </a:t>
            </a:r>
            <a:r>
              <a:rPr b="0" lang="en-US" sz="3200" spc="-1" strike="noStrike">
                <a:solidFill>
                  <a:srgbClr val="ffff66"/>
                </a:solidFill>
                <a:latin typeface="Times New Roman"/>
              </a:rPr>
              <a:t>Energie auf unterschiedlichen Energie</a:t>
            </a:r>
            <a:r>
              <a:rPr b="0" i="1" lang="en-US" sz="3200" spc="-1" strike="noStrike">
                <a:solidFill>
                  <a:srgbClr val="ffff66"/>
                </a:solidFill>
                <a:latin typeface="Times New Roman"/>
              </a:rPr>
              <a:t>träge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röme die Energie transportieren </a:t>
            </a:r>
            <a:endParaRPr b="0" lang="en-US" sz="4400" spc="-1" strike="noStrike">
              <a:solidFill>
                <a:srgbClr val="000000"/>
              </a:solidFill>
              <a:latin typeface="Times New Roman"/>
            </a:endParaRPr>
          </a:p>
        </p:txBody>
      </p:sp>
      <p:sp>
        <p:nvSpPr>
          <p:cNvPr id="111" name=""/>
          <p:cNvSpPr/>
          <p:nvPr/>
        </p:nvSpPr>
        <p:spPr>
          <a:xfrm>
            <a:off x="762120" y="2209680"/>
            <a:ext cx="7772400" cy="4551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ntropiestrom  I</a:t>
            </a:r>
            <a:r>
              <a:rPr b="0" lang="de-DE" sz="3200" spc="-1" strike="noStrike" baseline="-30000">
                <a:solidFill>
                  <a:srgbClr val="ffff66"/>
                </a:solidFill>
                <a:latin typeface="Times New Roman"/>
                <a:ea typeface="Times New Roman"/>
              </a:rPr>
              <a:t>S</a:t>
            </a:r>
            <a:r>
              <a:rPr b="0" lang="de-DE" sz="3200" spc="-1" strike="noStrike">
                <a:solidFill>
                  <a:srgbClr val="ffff66"/>
                </a:solidFill>
                <a:latin typeface="Times New Roman"/>
                <a:ea typeface="Times New Roman"/>
              </a:rPr>
              <a:t> =  dS/dt                P  =  T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lektr. Strom   I</a:t>
            </a:r>
            <a:r>
              <a:rPr b="0" lang="de-DE" sz="3200" spc="-1" strike="noStrike" baseline="-30000">
                <a:solidFill>
                  <a:srgbClr val="ffff66"/>
                </a:solidFill>
                <a:latin typeface="Times New Roman"/>
                <a:ea typeface="Times New Roman"/>
              </a:rPr>
              <a:t>el</a:t>
            </a:r>
            <a:r>
              <a:rPr b="0" lang="de-DE" sz="3200" spc="-1" strike="noStrike">
                <a:solidFill>
                  <a:srgbClr val="ffff66"/>
                </a:solidFill>
                <a:latin typeface="Times New Roman"/>
                <a:ea typeface="Times New Roman"/>
              </a:rPr>
              <a:t> =  dQ/dt               P  =  U I</a:t>
            </a:r>
            <a:r>
              <a:rPr b="0" lang="de-DE" sz="3200" spc="-1" strike="noStrike" baseline="-30000">
                <a:solidFill>
                  <a:srgbClr val="ffff66"/>
                </a:solidFill>
                <a:latin typeface="Times New Roman"/>
                <a:ea typeface="Times New Roman"/>
              </a:rPr>
              <a:t>e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Impulsstrom    I</a:t>
            </a:r>
            <a:r>
              <a:rPr b="0" lang="de-DE" sz="3200" spc="-1" strike="noStrike" baseline="-30000">
                <a:solidFill>
                  <a:srgbClr val="ffff66"/>
                </a:solidFill>
                <a:latin typeface="Times New Roman"/>
                <a:ea typeface="Times New Roman"/>
              </a:rPr>
              <a:t>p</a:t>
            </a:r>
            <a:r>
              <a:rPr b="0" lang="de-DE" sz="3200" spc="-1" strike="noStrike">
                <a:solidFill>
                  <a:srgbClr val="ffff66"/>
                </a:solidFill>
                <a:latin typeface="Times New Roman"/>
                <a:ea typeface="Times New Roman"/>
              </a:rPr>
              <a:t>  =  dp/dt                P  =   v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ergiestrom   P  = dE/d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teratur</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orn Bader Physik Oberstufe Band W Schroedel Verla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er Karlsruher Physikkurs – Gesamtband für Lehrer – Aulis Verlag Deubner</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Altlasten der Physik – F.Herrmann, G.Job Aulis Verlag Deubn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as ist Wärme und wie lässt Wärme sich für Arbeit nutzen?</a:t>
            </a:r>
            <a:br>
              <a:rPr sz="3200"/>
            </a:br>
            <a:endParaRPr b="0" lang="en-US" sz="3200" spc="-1" strike="noStrike">
              <a:solidFill>
                <a:srgbClr val="000000"/>
              </a:solidFill>
              <a:latin typeface="Times New Roman"/>
            </a:endParaRPr>
          </a:p>
        </p:txBody>
      </p:sp>
      <p:sp>
        <p:nvSpPr>
          <p:cNvPr id="51" name="PlaceHolder 2"/>
          <p:cNvSpPr>
            <a:spLocks noGrp="1"/>
          </p:cNvSpPr>
          <p:nvPr>
            <p:ph/>
          </p:nvPr>
        </p:nvSpPr>
        <p:spPr>
          <a:xfrm>
            <a:off x="609480" y="1371600"/>
            <a:ext cx="46483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le Wärmequellen geben Energie (Q)  zusammen mit Entropie (S) ab.</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ie Trennung von  von Energie und Entropie gelingt in einem einmaligen Prozess leicht zu 100%.  Ein effektiv arbeitender Wärmemotor muss aber den Prozess dauernd wiederholen, also periodisch arbeiten.</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rartige Maschinen müssen nach jeder Periode die zusammen mit der Energie aufgenommene Entropie vollständig  nach außen abgeben.  Zusammen mit der ausgeschiedenen Entropie wird wird immer auch ein Rest der zuvor mit der Entropie aufgenommenen Energie nutzlos  abgeführt.</a:t>
            </a:r>
            <a:endParaRPr b="0" lang="en-US" sz="2000" spc="-1" strike="noStrike">
              <a:solidFill>
                <a:srgbClr val="000000"/>
              </a:solidFill>
              <a:latin typeface="Times New Roman"/>
            </a:endParaRPr>
          </a:p>
        </p:txBody>
      </p:sp>
      <p:pic>
        <p:nvPicPr>
          <p:cNvPr id="52" name="Mühlrad" descr=""/>
          <p:cNvPicPr/>
          <p:nvPr/>
        </p:nvPicPr>
        <p:blipFill>
          <a:blip r:embed="rId1"/>
          <a:stretch/>
        </p:blipFill>
        <p:spPr>
          <a:xfrm>
            <a:off x="5486400" y="3809880"/>
            <a:ext cx="3124080" cy="2133720"/>
          </a:xfrm>
          <a:prstGeom prst="rect">
            <a:avLst/>
          </a:prstGeom>
          <a:ln w="0">
            <a:noFill/>
          </a:ln>
        </p:spPr>
      </p:pic>
      <p:sp>
        <p:nvSpPr>
          <p:cNvPr id="53" name=""/>
          <p:cNvSpPr/>
          <p:nvPr/>
        </p:nvSpPr>
        <p:spPr>
          <a:xfrm>
            <a:off x="5486400" y="1371600"/>
            <a:ext cx="297180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s drängt sich eine Analogie zur Wasserturbine auf,.bei welcher dem Energieträger Wasser ein Teil der potenziellen Energie  entzogen wird, das Wasser selbst aber die Turbine verlassen muss</a:t>
            </a:r>
            <a:r>
              <a:rPr b="0" lang="en-US" sz="2000" spc="-1" strike="noStrike">
                <a:solidFill>
                  <a:srgbClr val="ffff66"/>
                </a:solidFill>
                <a:latin typeface="Times New Roman"/>
              </a:rPr>
              <a: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as ist aber Entropie?</a:t>
            </a:r>
            <a:endParaRPr b="0" lang="en-US" sz="4400" spc="-1" strike="noStrike">
              <a:solidFill>
                <a:srgbClr val="000000"/>
              </a:solidFill>
              <a:latin typeface="Times New Roman"/>
            </a:endParaRPr>
          </a:p>
        </p:txBody>
      </p:sp>
      <p:pic>
        <p:nvPicPr>
          <p:cNvPr id="55" name="Carnotzyk" descr=""/>
          <p:cNvPicPr/>
          <p:nvPr/>
        </p:nvPicPr>
        <p:blipFill>
          <a:blip r:embed="rId1"/>
          <a:stretch/>
        </p:blipFill>
        <p:spPr>
          <a:xfrm>
            <a:off x="2514600" y="1447920"/>
            <a:ext cx="6019920" cy="3733560"/>
          </a:xfrm>
          <a:prstGeom prst="rect">
            <a:avLst/>
          </a:prstGeom>
          <a:ln w="0">
            <a:noFill/>
          </a:ln>
        </p:spPr>
      </p:pic>
      <p:pic>
        <p:nvPicPr>
          <p:cNvPr id="56" name="Ergebnis" descr=""/>
          <p:cNvPicPr/>
          <p:nvPr/>
        </p:nvPicPr>
        <p:blipFill>
          <a:blip r:embed="rId2"/>
          <a:stretch/>
        </p:blipFill>
        <p:spPr>
          <a:xfrm>
            <a:off x="304920" y="1447920"/>
            <a:ext cx="2057400" cy="1143000"/>
          </a:xfrm>
          <a:prstGeom prst="rect">
            <a:avLst/>
          </a:prstGeom>
          <a:ln w="0">
            <a:noFill/>
          </a:ln>
        </p:spPr>
      </p:pic>
      <p:pic>
        <p:nvPicPr>
          <p:cNvPr id="57" name="Definition" descr=""/>
          <p:cNvPicPr/>
          <p:nvPr/>
        </p:nvPicPr>
        <p:blipFill>
          <a:blip r:embed="rId3"/>
          <a:stretch/>
        </p:blipFill>
        <p:spPr>
          <a:xfrm>
            <a:off x="304920" y="2743200"/>
            <a:ext cx="2057400" cy="1219320"/>
          </a:xfrm>
          <a:prstGeom prst="rect">
            <a:avLst/>
          </a:prstGeom>
          <a:ln w="0">
            <a:noFill/>
          </a:ln>
        </p:spPr>
      </p:pic>
      <p:pic>
        <p:nvPicPr>
          <p:cNvPr id="58" name="Nutzenerg" descr=""/>
          <p:cNvPicPr/>
          <p:nvPr/>
        </p:nvPicPr>
        <p:blipFill>
          <a:blip r:embed="rId4"/>
          <a:stretch/>
        </p:blipFill>
        <p:spPr>
          <a:xfrm>
            <a:off x="304920" y="5410080"/>
            <a:ext cx="3504960" cy="1197000"/>
          </a:xfrm>
          <a:prstGeom prst="rect">
            <a:avLst/>
          </a:prstGeom>
          <a:ln w="0">
            <a:noFill/>
          </a:ln>
        </p:spPr>
      </p:pic>
      <p:pic>
        <p:nvPicPr>
          <p:cNvPr id="59" name="Wirkgrad" descr=""/>
          <p:cNvPicPr/>
          <p:nvPr/>
        </p:nvPicPr>
        <p:blipFill>
          <a:blip r:embed="rId5"/>
          <a:stretch/>
        </p:blipFill>
        <p:spPr>
          <a:xfrm>
            <a:off x="4267080" y="5410080"/>
            <a:ext cx="1828800" cy="1201680"/>
          </a:xfrm>
          <a:prstGeom prst="rect">
            <a:avLst/>
          </a:prstGeom>
          <a:ln w="0">
            <a:noFill/>
          </a:ln>
        </p:spPr>
      </p:pic>
      <p:pic>
        <p:nvPicPr>
          <p:cNvPr id="60" name="Gleich" descr=""/>
          <p:cNvPicPr/>
          <p:nvPr/>
        </p:nvPicPr>
        <p:blipFill>
          <a:blip r:embed="rId6"/>
          <a:stretch/>
        </p:blipFill>
        <p:spPr>
          <a:xfrm>
            <a:off x="304920" y="4114800"/>
            <a:ext cx="2050920" cy="1066680"/>
          </a:xfrm>
          <a:prstGeom prst="rect">
            <a:avLst/>
          </a:prstGeom>
          <a:ln w="0">
            <a:noFill/>
          </a:ln>
        </p:spPr>
      </p:pic>
      <p:sp>
        <p:nvSpPr>
          <p:cNvPr id="61" name=""/>
          <p:cNvSpPr/>
          <p:nvPr/>
        </p:nvSpPr>
        <p:spPr>
          <a:xfrm>
            <a:off x="4267080" y="1600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rnotscher</a:t>
            </a:r>
            <a:r>
              <a:rPr b="0" lang="de-DE" sz="2400" spc="-1" strike="noStrike">
                <a:solidFill>
                  <a:srgbClr val="000000"/>
                </a:solidFill>
                <a:latin typeface="Times New Roman"/>
              </a:rPr>
              <a:t> </a:t>
            </a:r>
            <a:r>
              <a:rPr b="0" lang="de-DE" sz="2000" spc="-1" strike="noStrike">
                <a:solidFill>
                  <a:srgbClr val="000000"/>
                </a:solidFill>
                <a:latin typeface="Times New Roman"/>
              </a:rPr>
              <a:t>Kreisproz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51920"/>
            <a:ext cx="8458200" cy="1143000"/>
          </a:xfrm>
          <a:prstGeom prst="rect">
            <a:avLst/>
          </a:prstGeom>
          <a:noFill/>
          <a:ln w="9360">
            <a:solidFill>
              <a:srgbClr val="33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s gibt keinen Super-Carnot-Motor!</a:t>
            </a:r>
            <a:endParaRPr b="0" lang="en-US" sz="4400" spc="-1" strike="noStrike">
              <a:solidFill>
                <a:srgbClr val="000000"/>
              </a:solidFill>
              <a:latin typeface="Times New Roman"/>
            </a:endParaRPr>
          </a:p>
        </p:txBody>
      </p:sp>
      <p:sp>
        <p:nvSpPr>
          <p:cNvPr id="63" name=""/>
          <p:cNvSpPr/>
          <p:nvPr/>
        </p:nvSpPr>
        <p:spPr>
          <a:xfrm>
            <a:off x="533520" y="11430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eder</a:t>
            </a:r>
            <a:r>
              <a:rPr b="0" lang="en-US" sz="2000" spc="-1" strike="noStrike">
                <a:solidFill>
                  <a:srgbClr val="ffff66"/>
                </a:solidFill>
                <a:latin typeface="Times New Roman"/>
              </a:rPr>
              <a:t> </a:t>
            </a:r>
            <a:r>
              <a:rPr b="0" lang="en-US" sz="2400" spc="-1" strike="noStrike">
                <a:solidFill>
                  <a:srgbClr val="ffff66"/>
                </a:solidFill>
                <a:latin typeface="Times New Roman"/>
              </a:rPr>
              <a:t>Wärmemotor, der zwischen den Temperaturen T und T0 arbeitet, muss bei der niedrigen Temperatur mindestens soviel Entropie abgeben, wie er bei der hohen aufgenommen hat.</a:t>
            </a:r>
            <a:endParaRPr b="0" lang="en-US" sz="2400" spc="-1" strike="noStrike">
              <a:solidFill>
                <a:srgbClr val="000000"/>
              </a:solidFill>
              <a:latin typeface="Times New Roman"/>
            </a:endParaRPr>
          </a:p>
        </p:txBody>
      </p:sp>
      <p:pic>
        <p:nvPicPr>
          <p:cNvPr id="64" name="SuperCarnot" descr=""/>
          <p:cNvPicPr/>
          <p:nvPr/>
        </p:nvPicPr>
        <p:blipFill>
          <a:blip r:embed="rId1"/>
          <a:stretch/>
        </p:blipFill>
        <p:spPr>
          <a:xfrm>
            <a:off x="4419720" y="2362320"/>
            <a:ext cx="4114800" cy="2590560"/>
          </a:xfrm>
          <a:prstGeom prst="rect">
            <a:avLst/>
          </a:prstGeom>
          <a:ln w="0">
            <a:noFill/>
          </a:ln>
        </p:spPr>
      </p:pic>
      <p:sp>
        <p:nvSpPr>
          <p:cNvPr id="65" name=""/>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Zweiter Hauptsatz: Es ist unmöglich, eine periodisch arbeitende Maschine zu bauen, die nichts weiter bewirkt, als Hebung einer Last und Abkühlung eines Körpers.</a:t>
            </a:r>
            <a:endParaRPr b="0" lang="en-US" sz="2400" spc="-1" strike="noStrike">
              <a:solidFill>
                <a:srgbClr val="000000"/>
              </a:solidFill>
              <a:latin typeface="Times New Roman"/>
            </a:endParaRPr>
          </a:p>
        </p:txBody>
      </p:sp>
      <p:sp>
        <p:nvSpPr>
          <p:cNvPr id="66" name=""/>
          <p:cNvSpPr/>
          <p:nvPr/>
        </p:nvSpPr>
        <p:spPr>
          <a:xfrm>
            <a:off x="533520" y="2438280"/>
            <a:ext cx="3657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Ein Aggregat aus einer Super-Carnot-Maschine und einer Carnot-Wärmepumpe würde gegen eine fundamentale Erfahrung verstoß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Zeittafe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Anders Celsius 1701 – 1744 Temperaturskala mit Fixpunkt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 Black 1728 – 1799  Fluidumstheorie Wärmestoff (Caloricum)</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Graf Rumford 1753 –1814; Versuche zum Gewicht des Caloricum , Wärme als Bewegung –Wesensgleichheit von Wärme und mechanischer Arbei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Louis Gay-Lusac 1778 – 1850 Zustandsgleichung von Gas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Sadi Carnot 1796 – 1832  Verbesserung von Wärmekraftmaschinen </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obert Mayer 1814 –1868          Äquivalenz von Arbeit und Wärm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ames Prescott Joule 1818 – 1889  Wärmeäquivalen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Hermann von Helmholtz 1821 – 1894   Einführung des Energiebegriffs</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udolf Clausius 1822 –1888      1865 Einführ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Ludwig Boltzmann 1844 – 1906      Statistische Deut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ia Wilard Gibbs 1839-1903 vollendet die moderne Thermodynamik</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igenschaften der Entrop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5867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ist eine Zustandsgröße.</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hat Mengencharakter. </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fließ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erzeugt, aber nicht vernichtet werd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bestimmt über die mögliche Ablaufrichtung von Vorgängen</a:t>
            </a:r>
            <a:endParaRPr b="0" lang="en-US" sz="3200" spc="-1" strike="noStrike">
              <a:solidFill>
                <a:srgbClr val="000000"/>
              </a:solidFill>
              <a:latin typeface="Times New Roman"/>
            </a:endParaRPr>
          </a:p>
        </p:txBody>
      </p:sp>
      <p:sp>
        <p:nvSpPr>
          <p:cNvPr id="71" name="">
            <a:hlinkClick r:id="rId1"/>
          </p:cNvPr>
          <p:cNvSpPr/>
          <p:nvPr/>
        </p:nvSpPr>
        <p:spPr>
          <a:xfrm>
            <a:off x="6629400" y="182880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gramm</a:t>
            </a:r>
            <a:endParaRPr b="0" lang="en-US" sz="2400" spc="-1" strike="noStrike">
              <a:solidFill>
                <a:srgbClr val="000000"/>
              </a:solidFill>
              <a:latin typeface="Times New Roman"/>
            </a:endParaRPr>
          </a:p>
        </p:txBody>
      </p:sp>
      <p:sp>
        <p:nvSpPr>
          <p:cNvPr id="72" name="">
            <a:hlinkClick r:id="rId2" action="ppaction://hlinksldjump"/>
          </p:cNvPr>
          <p:cNvSpPr/>
          <p:nvPr/>
        </p:nvSpPr>
        <p:spPr>
          <a:xfrm>
            <a:off x="6629400" y="2438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3" action="ppaction://hlinksldjump"/>
          </p:cNvPr>
          <p:cNvSpPr/>
          <p:nvPr/>
        </p:nvSpPr>
        <p:spPr>
          <a:xfrm>
            <a:off x="6629400" y="30481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rId4" action="ppaction://hlinksldjump"/>
          </p:cNvPr>
          <p:cNvSpPr/>
          <p:nvPr/>
        </p:nvSpPr>
        <p:spPr>
          <a:xfrm>
            <a:off x="6629400" y="3733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5" action="ppaction://hlinksldjump"/>
          </p:cNvPr>
          <p:cNvSpPr/>
          <p:nvPr/>
        </p:nvSpPr>
        <p:spPr>
          <a:xfrm>
            <a:off x="6629400" y="4724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ntropie ist eine additive Größe</a:t>
            </a:r>
            <a:endParaRPr b="0" lang="en-US" sz="4400" spc="-1" strike="noStrike">
              <a:solidFill>
                <a:srgbClr val="000000"/>
              </a:solidFill>
              <a:latin typeface="Times New Roman"/>
            </a:endParaRPr>
          </a:p>
        </p:txBody>
      </p:sp>
      <p:sp>
        <p:nvSpPr>
          <p:cNvPr id="77" name=""/>
          <p:cNvSpPr/>
          <p:nvPr/>
        </p:nvSpPr>
        <p:spPr>
          <a:xfrm>
            <a:off x="4191120" y="11430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r Entropieinhalt des Ganzen  ist die Summe der Entropien der Teile.</a:t>
            </a:r>
            <a:endParaRPr b="0" lang="en-US" sz="2400" spc="-1" strike="noStrike">
              <a:solidFill>
                <a:srgbClr val="000000"/>
              </a:solidFill>
              <a:latin typeface="Times New Roman"/>
            </a:endParaRPr>
          </a:p>
        </p:txBody>
      </p:sp>
      <p:sp>
        <p:nvSpPr>
          <p:cNvPr id="78" name="">
            <a:hlinkClick r:id="rId1" action="ppaction://hlinksldjump"/>
          </p:cNvPr>
          <p:cNvSpPr/>
          <p:nvPr/>
        </p:nvSpPr>
        <p:spPr>
          <a:xfrm>
            <a:off x="784872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066680" y="2590920"/>
            <a:ext cx="3429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Andere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nergie</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Lad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Impuls</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asse </a:t>
            </a:r>
            <a:endParaRPr b="0" lang="en-US" sz="2400" spc="-1" strike="noStrike">
              <a:solidFill>
                <a:srgbClr val="000000"/>
              </a:solidFill>
              <a:latin typeface="Times New Roman"/>
            </a:endParaRPr>
          </a:p>
        </p:txBody>
      </p:sp>
      <p:sp>
        <p:nvSpPr>
          <p:cNvPr id="80" name=""/>
          <p:cNvSpPr/>
          <p:nvPr/>
        </p:nvSpPr>
        <p:spPr>
          <a:xfrm>
            <a:off x="5105520" y="2590920"/>
            <a:ext cx="3504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Nicht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Temperatur</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Spann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Geschwindigkeit</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ruck</a:t>
            </a:r>
            <a:endParaRPr b="0" lang="en-US" sz="2400" spc="-1" strike="noStrike">
              <a:solidFill>
                <a:srgbClr val="000000"/>
              </a:solidFill>
              <a:latin typeface="Times New Roman"/>
            </a:endParaRPr>
          </a:p>
        </p:txBody>
      </p:sp>
      <p:sp>
        <p:nvSpPr>
          <p:cNvPr id="81" name=""/>
          <p:cNvSpPr/>
          <p:nvPr/>
        </p:nvSpPr>
        <p:spPr>
          <a:xfrm>
            <a:off x="1143000" y="525780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Sprechweisen: Das Syst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ff"/>
                </a:solidFill>
                <a:latin typeface="Times New Roman"/>
              </a:rPr>
              <a:t>I</a:t>
            </a:r>
            <a:r>
              <a:rPr b="0" lang="de-DE" sz="2400" spc="-1" strike="noStrike">
                <a:solidFill>
                  <a:srgbClr val="ffff66"/>
                </a:solidFill>
                <a:latin typeface="Times New Roman"/>
              </a:rPr>
              <a:t>enthält ...                                      hat ....             </a:t>
            </a:r>
            <a:endParaRPr b="0" lang="en-US" sz="2400" spc="-1" strike="noStrike">
              <a:solidFill>
                <a:srgbClr val="000000"/>
              </a:solidFill>
              <a:latin typeface="Times New Roman"/>
            </a:endParaRPr>
          </a:p>
        </p:txBody>
      </p:sp>
      <p:pic>
        <p:nvPicPr>
          <p:cNvPr id="82" name="Additivität" descr=""/>
          <p:cNvPicPr/>
          <p:nvPr/>
        </p:nvPicPr>
        <p:blipFill>
          <a:blip r:embed="rId2"/>
          <a:stretch/>
        </p:blipFill>
        <p:spPr>
          <a:xfrm>
            <a:off x="1295280" y="1066680"/>
            <a:ext cx="2057400" cy="13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ströme</a:t>
            </a:r>
            <a:endParaRPr b="0" lang="en-US" sz="4400" spc="-1" strike="noStrike">
              <a:solidFill>
                <a:srgbClr val="000000"/>
              </a:solidFill>
              <a:latin typeface="Times New Roman"/>
            </a:endParaRPr>
          </a:p>
        </p:txBody>
      </p:sp>
      <p:pic>
        <p:nvPicPr>
          <p:cNvPr id="84" name="Entropie8" descr=""/>
          <p:cNvPicPr/>
          <p:nvPr/>
        </p:nvPicPr>
        <p:blipFill>
          <a:blip r:embed="rId1"/>
          <a:stretch/>
        </p:blipFill>
        <p:spPr>
          <a:xfrm>
            <a:off x="4572000" y="1143000"/>
            <a:ext cx="3276720" cy="2209680"/>
          </a:xfrm>
          <a:prstGeom prst="rect">
            <a:avLst/>
          </a:prstGeom>
          <a:ln w="0">
            <a:noFill/>
          </a:ln>
        </p:spPr>
      </p:pic>
      <p:pic>
        <p:nvPicPr>
          <p:cNvPr id="85" name="Entropie10" descr=""/>
          <p:cNvPicPr/>
          <p:nvPr/>
        </p:nvPicPr>
        <p:blipFill>
          <a:blip r:embed="rId2"/>
          <a:stretch/>
        </p:blipFill>
        <p:spPr>
          <a:xfrm>
            <a:off x="762120" y="1143000"/>
            <a:ext cx="3581280" cy="2286000"/>
          </a:xfrm>
          <a:prstGeom prst="rect">
            <a:avLst/>
          </a:prstGeom>
          <a:ln w="0">
            <a:noFill/>
          </a:ln>
        </p:spPr>
      </p:pic>
      <p:pic>
        <p:nvPicPr>
          <p:cNvPr id="86" name="Entropie13" descr=""/>
          <p:cNvPicPr/>
          <p:nvPr/>
        </p:nvPicPr>
        <p:blipFill>
          <a:blip r:embed="rId3"/>
          <a:stretch/>
        </p:blipFill>
        <p:spPr>
          <a:xfrm>
            <a:off x="762120" y="3733920"/>
            <a:ext cx="3581280" cy="2444760"/>
          </a:xfrm>
          <a:prstGeom prst="rect">
            <a:avLst/>
          </a:prstGeom>
          <a:ln w="0">
            <a:noFill/>
          </a:ln>
        </p:spPr>
      </p:pic>
      <p:sp>
        <p:nvSpPr>
          <p:cNvPr id="87" name="">
            <a:hlinkClick r:id="rId4" action="ppaction://hlinksldjump"/>
          </p:cNvPr>
          <p:cNvSpPr/>
          <p:nvPr/>
        </p:nvSpPr>
        <p:spPr>
          <a:xfrm>
            <a:off x="80773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657600"/>
            <a:ext cx="40388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ntropiestrom I =  dS/d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Der Strom wird vom Temperaturgefälle (TA –TB) angetrieb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s ergibt sich eine formale Analogie zum elektrischen Str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erzeugung </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792468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Akku" descr=""/>
          <p:cNvPicPr/>
          <p:nvPr/>
        </p:nvPicPr>
        <p:blipFill>
          <a:blip r:embed="rId2"/>
          <a:stretch/>
        </p:blipFill>
        <p:spPr>
          <a:xfrm>
            <a:off x="3352680" y="1143000"/>
            <a:ext cx="2743200" cy="2077920"/>
          </a:xfrm>
          <a:prstGeom prst="rect">
            <a:avLst/>
          </a:prstGeom>
          <a:ln w="0">
            <a:noFill/>
          </a:ln>
        </p:spPr>
      </p:pic>
      <p:pic>
        <p:nvPicPr>
          <p:cNvPr id="92" name="Reibung" descr=""/>
          <p:cNvPicPr/>
          <p:nvPr/>
        </p:nvPicPr>
        <p:blipFill>
          <a:blip r:embed="rId3"/>
          <a:stretch/>
        </p:blipFill>
        <p:spPr>
          <a:xfrm>
            <a:off x="6172200" y="1143000"/>
            <a:ext cx="2743200" cy="2057400"/>
          </a:xfrm>
          <a:prstGeom prst="rect">
            <a:avLst/>
          </a:prstGeom>
          <a:ln w="0">
            <a:noFill/>
          </a:ln>
        </p:spPr>
      </p:pic>
      <p:pic>
        <p:nvPicPr>
          <p:cNvPr id="93" name="Wäleitung" descr=""/>
          <p:cNvPicPr/>
          <p:nvPr/>
        </p:nvPicPr>
        <p:blipFill>
          <a:blip r:embed="rId4"/>
          <a:stretch/>
        </p:blipFill>
        <p:spPr>
          <a:xfrm>
            <a:off x="304920" y="3505320"/>
            <a:ext cx="2971800" cy="2303280"/>
          </a:xfrm>
          <a:prstGeom prst="rect">
            <a:avLst/>
          </a:prstGeom>
          <a:ln w="0">
            <a:noFill/>
          </a:ln>
        </p:spPr>
      </p:pic>
      <p:pic>
        <p:nvPicPr>
          <p:cNvPr id="94" name="Drosselung" descr=""/>
          <p:cNvPicPr/>
          <p:nvPr/>
        </p:nvPicPr>
        <p:blipFill>
          <a:blip r:embed="rId5"/>
          <a:stretch/>
        </p:blipFill>
        <p:spPr>
          <a:xfrm>
            <a:off x="3352680" y="3505320"/>
            <a:ext cx="2743200" cy="2307960"/>
          </a:xfrm>
          <a:prstGeom prst="rect">
            <a:avLst/>
          </a:prstGeom>
          <a:ln w="0">
            <a:noFill/>
          </a:ln>
        </p:spPr>
      </p:pic>
      <p:pic>
        <p:nvPicPr>
          <p:cNvPr id="95" name="Flamme" descr=""/>
          <p:cNvPicPr/>
          <p:nvPr/>
        </p:nvPicPr>
        <p:blipFill>
          <a:blip r:embed="rId6"/>
          <a:stretch/>
        </p:blipFill>
        <p:spPr>
          <a:xfrm>
            <a:off x="304920" y="1143000"/>
            <a:ext cx="2971800" cy="2090880"/>
          </a:xfrm>
          <a:prstGeom prst="rect">
            <a:avLst/>
          </a:prstGeom>
          <a:ln w="0">
            <a:noFill/>
          </a:ln>
        </p:spPr>
      </p:pic>
      <p:sp>
        <p:nvSpPr>
          <p:cNvPr id="96" name=""/>
          <p:cNvSpPr/>
          <p:nvPr/>
        </p:nvSpPr>
        <p:spPr>
          <a:xfrm>
            <a:off x="6248520" y="3429000"/>
            <a:ext cx="26668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entsteht bei allen nicht umkehrbaren Prozessen. Bei umkehr- baren Prozessen bleibt sie erhalt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kann erzeugt, aber nicht vernichtet wer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4T10:40:03Z</dcterms:created>
  <dc:creator>Helmut Dittmann</dc:creator>
  <dc:description/>
  <dc:language>en-US</dc:language>
  <cp:lastModifiedBy>Helmut Dittmann</cp:lastModifiedBy>
  <dcterms:modified xsi:type="dcterms:W3CDTF">2002-10-14T05:46:17Z</dcterms:modified>
  <cp:revision>80</cp:revision>
  <dc:subject/>
  <dc:title>Energie und Entropie – ein unzertrennliches Paar</dc:title>
</cp:coreProperties>
</file>